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Pig.wav" ContentType="audio/x-wav"/>
  <Override PartName="/ppt/media/image13.wmf" ContentType="image/x-wmf"/>
  <Override PartName="/ppt/media/image29.png" ContentType="image/png"/>
  <Override PartName="/ppt/media/image14.wmf" ContentType="image/x-wmf"/>
  <Override PartName="/ppt/media/image30.jpeg" ContentType="image/jpeg"/>
  <Override PartName="/ppt/media/image24.jpeg" ContentType="image/jpeg"/>
  <Override PartName="/ppt/media/image4.png" ContentType="image/png"/>
  <Override PartName="/ppt/media/image27.png" ContentType="image/png"/>
  <Override PartName="/ppt/media/match_strike.wav" ContentType="audio/x-wav"/>
  <Override PartName="/ppt/media/image15.png" ContentType="image/png"/>
  <Override PartName="/ppt/media/image18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6.wmf" ContentType="image/x-wm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27B1-3CBD-4167-8DB7-F9B848ADF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077E-0044-42AB-AE5B-DC00E8BA13B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EE1E-B202-4159-8AF2-24116D9C9FD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8D46-4C22-448E-8D8E-767CAAF97CB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407-179A-4223-B2D6-E4C5060A409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B181-8561-4CA0-B598-CCD081558E5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CAE7-BEA2-4109-AB27-4B6F295E126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E4BE-D6DE-4D6A-A22D-B2D1AD32CD0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AB28-7DD2-4877-9A0B-D0BBF17DA22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BDD9-BC79-4FE8-8023-0A86C45FF94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34CB-167D-46CD-B7CF-96484182058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CC6E-EBDC-4628-AEB4-B56134E103A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CA34-05D0-4841-A532-6BE286FF80C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07D5-B253-4B48-9A45-44559534F7A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84CD-E586-4545-B910-FF5BDD0EF61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22F3-FB58-4506-8C89-07C65236578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86FD-E454-46FD-9785-70F2E00F370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F9E7-623A-42A9-B673-4356CF19A1F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F197-1BCC-463A-AE03-1F9B08483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DE1E9-52C3-447C-9A90-26DAEB506B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D26D-52B1-4299-8140-282D9AE8F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17E6-1294-4400-88D3-520CB6873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05C18-598D-489B-9095-8C841448EA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FDE7-2901-4F3E-8A9F-7C463C1CD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B8BB4-94FE-4CB7-9F0A-202FFC1FA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ADBB-1676-4070-9356-7A41EB207A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DD7D-0005-48CE-AC7E-5B28E57C7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FA83-3FF4-4845-B619-C489E07262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8D635-19C8-4196-9990-12B42248F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410E-8756-4E72-99D4-118B93297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A051-5E21-4B1E-8134-3D2968CE512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wmf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6" descr="05_02b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Picture 7" descr="doghouseBTLs-w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5" name="Picture 12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6" name="AutoShape 5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50" name="AutoShape 9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1" name="Rectangle 10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2" name="Rectangle 11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3" name="Rectangle 12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57" name="Picture 20" descr="penguinL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21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5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60" name="AutoShape 23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1" name="Rectangle 24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26" descr="match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27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4" name="AutoShape 28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5" name="Rectangle 29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6" name="Rectangle 30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67" name="Group 31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8" name="Rectangle 32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469" name="Picture 33" descr="piggybank-ecoin2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AutoShape 34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penguinL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11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6" name="Group 12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7" name="Group 13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8" name="Oval 14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79" name="Rectangle 15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0" name="Line 16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1" name="Group 17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2" name="Group 18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3" name="Oval 19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4" name="Rectangle 20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5" name="Line 21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6" name="Group 22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7" name="Group 23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8" name="Oval 24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9" name="Rectangle 25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0" name="Line 26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1" name="Group 27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2" name="Group 28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3" name="Oval 29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4" name="Rectangle 30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5" name="Line 31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7" name="Group 33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8" name="Oval 34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9" name="Rectangle 35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00" name="Line 36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01" name="Rectangle 37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2" name="AutoShape 39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4" name="Rectangle 38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AutoShape 40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12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7" name="Group 114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8" name="Picture 80" descr="09_07a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81" descr="09_07b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0" name="Group 113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11" name="Rectangle 83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2" name="Rectangle 84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3" name="Rectangle 85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4" name="Rectangle 86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5" name="Rectangle 87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6" name="Rectangle 88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7" name="Rectangle 89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8" name="Rectangle 90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9" name="Rectangle 91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0" name="Rectangle 92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Rectangle 93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2" name="Rectangle 94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3" name="Rectangle 95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4" name="Rectangle 96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5" name="Rectangle 97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6" name="Rectangle 98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7" name="Rectangle 99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8" name="Rectangle 100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9" name="Rectangle 101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0" name="Rectangle 102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1" name="Rectangle 103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2" name="Rectangle 104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3" name="Rectangle 105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4" name="Rectangle 106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5" name="Rectangle 107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6" name="Rectangle 108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7" name="Rectangle 109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8" name="Rectangle 110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9" name="Rectangle 111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17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Freeform 59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Freeform 60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46" name="Group 63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7" name="Group 61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8" name="Picture 47" descr="09_07a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9" name="Rectangle 48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0" name="Rectangle 49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1" name="Rectangle 50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2" name="Rectangle 51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3" name="Rectangle 52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4" name="Rectangle 53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5" name="Rectangle 54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6" name="Rectangle 55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7" name="Rectangle 56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8" name="Rectangle 57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9" name="Rectangle 58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60" name="Rectangle 62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1" name="AutoShape 115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Line 116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09_08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9" name="AutoShape 26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4" name="Group 28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5" name="Picture 29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Oval 30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7" name="AutoShape 31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AutoShape 32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AutoShape 34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6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Rectangle 25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6" name="Group 35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7" name="Oval 11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1" name="Rectangle 15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2" name="Group 16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3" name="Rectangle 17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4" name="AutoShape 18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5" name="AutoShape 19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6" name="Rectangle 22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8" name="Group 27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9" name="AutoShape 28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0" name="Rectangle 29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1" name="Rectangle 30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12" name="Group 31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3" name="AutoShape 32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Rectangle 34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16" name="Picture 38" descr="f9-09_how_wine_is_made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7" name="Picture 39" descr=""/>
          <p:cNvPicPr/>
          <p:nvPr/>
        </p:nvPicPr>
        <p:blipFill>
          <a:blip r:embed="rId2"/>
          <a:srcRect l="12802" t="0" r="22403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8" name="Picture 41" descr=""/>
          <p:cNvPicPr/>
          <p:nvPr/>
        </p:nvPicPr>
        <p:blipFill>
          <a:blip r:embed="rId3"/>
          <a:srcRect l="0" t="0" r="68440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3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0" name="Rectangle 44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1" name="Picture 46" descr="doghouseBTLs-w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7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3" name="Picture 28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Oval 29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25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8" name="Group 25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9" name="Rectangle 6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30" name="Group 7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31" name="Oval 8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2" name="AutoShape 9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3" name="AutoShape 10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4" name="Rectangle 11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Group 12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6" name="AutoShape 13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Rectangle 14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Rectangle 15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39" name="Freeform 17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0" name="Picture 2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23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3" name="Rectangle 26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4" name="Rectangle 30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5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6" name="Picture 26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27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48" name="Rectangle 20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0" name="Picture 4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2" name="Group 16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3" name="Rectangle 6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54" name="Group 7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5" name="Rectangle 8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6" name="AutoShape 9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7" name="AutoShape 10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11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9" name="AutoShape 12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2" name="Rectangle 17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3" name="Picture 18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19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5" name="Group 21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6" name="Oval 22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7" name="Rectangle 23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8" name="Rectangle 24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3" name="Group 17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4" name="AutoShape 6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5" name="Group 7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6" name="Oval 8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7" name="Rectangle 9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Group 16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9" name="AutoShape 5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80" name="Group 10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81" name="Oval 11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2" name="Rectangle 12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3" name="Line 13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14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87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8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90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91" name="AutoShape 6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3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0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96" name="Group 35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7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Rectangle 5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9" name="Rectangle 6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0" name="Rectangle 7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1" name="Rectangle 8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2" name="Rectangle 15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3" name="Rectangle 16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4" name="Rectangle 17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5" name="Rectangle 18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6" name="Rectangle 19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7" name="Rectangle 20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8" name="Rectangle 21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9" name="Rectangle 22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0" name="Rectangle 23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AutoShape 25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AutoShape 27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5" name="Freeform 28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16" name="Group 29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7" name="Oval 30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8" name="Rectangle 31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20" name="Picture 33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8" name="Picture 6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7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0" name="Picture 8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AutoShape 9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7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7" name="Rectangle 4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2" name="Picture 11" descr="penguinL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5" name="AutoShape 14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0" name="Picture 13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1" name="Picture 14" descr="penguinL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5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Picture 16" descr="penguinL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7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Group 41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7" name="AutoShape 42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9" name="Group 44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50" name="AutoShape 45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1" name="AutoShape 46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52" name="Picture 47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1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4" name="AutoShape 52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53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6" name="Group 54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7" name="AutoShape 55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" name="AutoShape 56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9" name="AutoShape 57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0" name="Group 61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61" name="AutoShape 62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2" name="AutoShape 63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63" name="AutoShape 65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AutoShape 66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AutoShape 67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AutoShape 68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AutoShape 69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AutoShape 70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AutoShape 71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AutoShape 72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1" name="Group 76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2" name="AutoShape 74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75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4" name="Group 89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5" name="Freeform 90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Freeform 91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Rectangle 92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AutoShape 93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9" name="Group 94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80" name="Freeform 95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1" name="Freeform 96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2" name="Rectangle 97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" name="AutoShape 98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4" name="Group 99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5" name="Freeform 100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Freeform 101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Rectangle 102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AutoShape 103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9" name="Group 104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90" name="Freeform 105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Freeform 106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Rectangle 107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AutoShape 108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4" name="Group 109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5" name="Freeform 110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Freeform 111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Rectangle 112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AutoShape 113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9" name="Group 114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200" name="Freeform 115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1" name="Freeform 116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Rectangle 117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AutoShape 118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4" name="Group 119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5" name="Freeform 120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6" name="Freeform 121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7" name="Rectangle 122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8" name="AutoShape 123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9" name="Group 124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10" name="Freeform 125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1" name="Freeform 126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127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AutoShape 128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4" name="Group 78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5" name="AutoShape 37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38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7" name="Group 129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8" name="AutoShape 130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131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0" name="Group 134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21" name="Rectangle 23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222" name="Picture 133" descr="piggybank-ecoin2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4" name="Picture 3" descr="fire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logs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AutoShape 5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27" name="Picture 6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1" name="Picture 10" descr="21009023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4" name="Picture 23" descr="piggybank-ecoin2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24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7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8" name="Picture 4" descr="09_07a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Rectangle 33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Rectangle 34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36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Text Box 55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Text Box 56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Text Box 59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Text Box 61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Text Box 62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Text Box 63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Text Box 64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Text Box 65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Text Box 66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Text Box 67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Text Box 68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Text Box 69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Text Box 70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Text Box 71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Text Box 72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Text Box 73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Text Box 74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Text Box 75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Text Box 76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Text Box 77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Text Box 78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Text Box 79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Text Box 80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Rectangle 81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Text Box 44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82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Rectangle 83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Rectangle 85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Rectangle 86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Oval 88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3" name="Oval 89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3" descr="09_07a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6" name="Picture 12" descr="penguinL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3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8" name="Picture 15" descr="09_07b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6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Rectangle 40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3" name="Rectangle 41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4" name="Rectangle 44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Text Box 45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Rectangle 46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47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48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Rectangle 49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Rectangle 50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Rectangle 51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Rectangle 52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Text Box 53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55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Rectangle 61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Rectangle 62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Rectangle 63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Rectangle 64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Rectangle 65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66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67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Rectangle 68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Rectangle 69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Rectangle 70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Rectangle 71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Rectangle 74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Rectangle 75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Rectangle 76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Rectangle 77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AutoShape 78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AutoShape 79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Rectangle 80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Rectangle 81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Rectangle 82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Rectangle 83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AutoShape 84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Freeform 85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AutoShape 87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AutoShape 88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AutoShape 93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Freeform 92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00" name="Picture 3" descr="f9-04_substrate-level_p_c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4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2" name="Picture 5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6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7" descr="f9-04_substrate-level_p_c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8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9" name="Picture 12" descr="09_07b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3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1" name="Rectangle 14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2" name="Rectangle 15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3" name="Rectangle 16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7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9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20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21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2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3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4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2" name="Rectangle 25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Rectangle 26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Rectangle 27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Rectangle 28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6" name="Rectangle 29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7" name="Rectangle 30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32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33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Rectangle 34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2" name="Rectangle 35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3" name="Rectangle 36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Rectangle 37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Rectangle 38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Rectangle 39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Rectangle 40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9" name="AutoShape 42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AutoShape 43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AutoShape 44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AutoShape 45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01-04T04:15:12Z</cp:lastPrinted>
  <dcterms:modified xsi:type="dcterms:W3CDTF">2010-09-22T00:02:10Z</dcterms:modified>
  <cp:revision>105</cp:revision>
  <dc:subject/>
  <dc:title>Chapter  9.  Cellular Respiration  STAGE 1: Glycolysis</dc:title>
</cp:coreProperties>
</file>