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5.png" ContentType="image/png"/>
  <Override PartName="/ppt/media/image8.jpeg" ContentType="image/jpeg"/>
  <Override PartName="/ppt/media/Pi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056A-36A3-4B5B-865D-A92557D1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B090-443B-4A1F-B0AC-3EBCABD6011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A641-4489-452C-93B1-FDAC053023B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ED4E-8113-4483-A25A-EA497985000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4C9B-92C4-4BB1-8CFD-C147B64AC00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5D0-3B46-4433-B19B-9B8B980AF58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5C1B-9A55-4B8E-943F-200DB1B2131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6986-9BD8-4757-A27F-FE43E4C69B1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E001-C243-4707-ABFA-184C96087CD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9FAE-B97A-4C09-B74D-CEDFD6AFCE3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F1A2-4D07-46A6-B229-4CBADF492D2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152-1664-4D66-BCD4-F4F066846FE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C4CA-588A-4CC1-ADCB-F2FF9EE469E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F01E-2471-46F6-8F80-2F8E41B48C9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D4B7-FB6C-4C49-B08A-4E967CFFB5D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BDA2-638C-4A55-8260-EB95A0B2E4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43986-9F6A-4658-B7DB-EAC5A857809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5714-CA5C-46CA-A67F-51877767FC1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AutoShape 14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3" name="Group 16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AutoShape 17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6" name="Picture 19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0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AutoShape 21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AutoShape 24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AutoShape 25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3" name="AutoShape 26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AutoShape 28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6" name="AutoShape 29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7" name="Group 30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Rectangle 31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29" name="Picture 32" descr="piggybankred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33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40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AutoShape 42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1" name="Group 84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AutoShape 85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86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4" name="Group 87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AutoShape 88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" name="Rectangle 89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6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8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9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1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2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5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8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0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1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4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6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7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9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00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3" name="AutoShape 32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5" name="Group 34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6" name="AutoShape 35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8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4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4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7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30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2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3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6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9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2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4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5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7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8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0" name="Group 31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1" name="AutoShape 32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3" name="Group 34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4" name="AutoShape 35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6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1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2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4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AutoShape 49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67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Group 70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70" name="AutoShape 71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2" name="Group 81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3" name="Group 50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4" name="AutoShape 51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5" name="Rectangle 52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76" name="Picture 76" descr="piggybank-ecoin2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82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8" name="Group 53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9" name="AutoShape 54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0" name="Rectangle 55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1" name="Picture 77" descr="piggybank-ecoin2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83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3" name="Group 59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4" name="AutoShape 60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61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6" name="Picture 78" descr="piggybank-ecoin2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80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8" name="Group 73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9" name="AutoShape 74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0" name="Rectangle 75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1" name="Picture 79" descr="piggybank-ecoin2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5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3" name="Group 56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4" name="AutoShape 57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Rectangle 58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6" name="Picture 84" descr="piggybankFADH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86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8" name="AutoShape 87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9" name="Rectangle 88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00" name="AutoShape 89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2" name="Rectangle 3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0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7" name="Rectangle 3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9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10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2" name="Picture 12" descr="09_03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3" name="Rectangle 13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2" name="AutoShape 25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9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8" name="AutoShape 9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1" name="AutoShape 27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2" name="Picture 32" descr="piggybank-ecoin2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0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4" name="Text Box 41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Group 42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6" name="Rectangle 43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Rectangle 44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9" name="Rectangle 46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0" name="Rectangle 47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4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2" name="AutoShape 5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AutoShape 17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7" name="Group 26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8" name="Rectangle 12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Oval 18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50" name="Picture 37" descr="piggybankFADH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5" name="Group 28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6" name="Picture 27" descr="piggybankFADH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6" descr="piggybank-ecoin2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60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3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9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5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2" name="Rectangle 17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9" name="Oval 24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Rectangle 25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2" name="Picture 27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3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8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2" name="Rectangle 11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" name="Group 17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7" name="Rectangle 2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8" name="Group 5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AutoShape 8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Rectangle 9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AutoShape 14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5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8" name="Picture 5" descr="05_21a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80" name="Picture 63" descr="05_02b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1" name="Freeform 64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3" name="Group 38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4" name="Oval 20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Oval 28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Oval 29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Oval 33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Oval 34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2" name="Group 61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3" name="Freeform 17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06" name="Picture 66" descr="05_21b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7" name="Picture 69" descr="mito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AutoShape 70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Rectangle 6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5" name="Picture 7" descr=""/>
            <p:cNvPicPr/>
            <p:nvPr/>
          </p:nvPicPr>
          <p:blipFill>
            <a:blip r:embed="rId2"/>
            <a:srcRect l="13498" t="0" r="0" b="10849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8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Rectangle 11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Picture 17" descr="penguinL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8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3" name="Rectangle 23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7" name="AutoShape 5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9" name="AutoShape 8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3" name="Text Box 13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6" name="Group 51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7" name="Oval 29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Rectangle 40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26" descr="penguinL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8" descr="piggybank-ecoin2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AutoShape 50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Freeform 55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9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48" name="Text Box 4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8" name="Group 16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9" name="AutoShape 17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0" name="AutoShape 18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61" name="Picture 19" descr="piggybank-ecoin2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26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4" name="Rectangle 27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Oval 31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Rectangle 5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12-21T05:51:06Z</cp:lastPrinted>
  <dcterms:modified xsi:type="dcterms:W3CDTF">2010-09-22T00:59:50Z</dcterms:modified>
  <cp:revision>78</cp:revision>
  <dc:subject/>
  <dc:title>Cellular Respiration   Oxidation of Pyruvate   Krebs Cycle</dc:title>
</cp:coreProperties>
</file>