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Pig.wav" ContentType="audio/x-wav"/>
  <Override PartName="/ppt/media/image5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910F-A8DE-4A23-B298-5E78CF37C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C9C9-55B4-474E-95B4-9A1BD8BB947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CADF-682D-46D6-BC68-2EB4BBDDCEF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3EB6-474D-49FE-AB79-B276129C156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F054-7E91-41D7-B215-99B838DE487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C285-9D87-4D94-BA8A-5A3CCEA1A5B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A891-4229-459B-A0BD-5FDE5F29A2C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DBD4-DD03-4599-BA60-A698A431F27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984A-053B-42EF-B5D5-7BCC834029E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4D5C-2D35-4BF0-BD83-ADB8C0F0B75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4FD3-6D1C-4C1E-87C3-CA73A5A4716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2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6B60-C962-44FB-AD45-348E24AFC7A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98F3-1301-4BB9-B21D-D51963D6028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A923-54B0-490E-8475-14FBFF07D48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340E-92FF-4C63-9A41-B32A37CD543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E196-1A70-42D7-9006-4239216F1A3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DB0D-D7FB-471C-B29B-ED46AFC2FD6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A71A-F146-4851-8A6C-3FFB1E68F76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D50-7D34-44A7-8AC4-0290FFFC902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FEF8-3194-4499-851D-C04F7315C42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A75C-9B48-4261-8E16-D02F1A4FDCB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7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0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1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57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rcRect l="9850" t="0" r="0" b="0"/>
          <a:stretch/>
        </p:blipFill>
        <p:spPr>
          <a:xfrm>
            <a:off x="5911920" y="4654440"/>
            <a:ext cx="3155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34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10" name="Picture 35" descr="09_03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11" name="Rectangle 36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Rectangle 37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Rectangle 38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4" name="Rectangle 39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5" name="Rectangle 40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Rectangle 41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Rectangle 42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0" name="AutoShape 45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1" name="Group 33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22" name="Picture 8" descr="09_15b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9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Rectangle 14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9" name="Rectangle 15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2" name="Rectangle 18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5" name="Rectangle 21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37" name="Group 32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8" name="Line 24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9" name="Text Box 25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40" name="Rectangle 26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3" name="AutoShape 29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40320 w 281160"/>
                <a:gd name="textAreaRight" fmla="*/ 240840 w 281160"/>
                <a:gd name="textAreaTop" fmla="*/ 33840 h 235800"/>
                <a:gd name="textAreaBottom" fmla="*/ 2019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0" y="10800"/>
                  </a:moveTo>
                  <a:cubicBezTo>
                    <a:pt x="20160" y="5630"/>
                    <a:pt x="15969" y="1440"/>
                    <a:pt x="10800" y="1440"/>
                  </a:cubicBezTo>
                  <a:cubicBezTo>
                    <a:pt x="5630" y="1440"/>
                    <a:pt x="1440" y="5630"/>
                    <a:pt x="144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lnTo>
                    <a:pt x="201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4" name="Text Box 30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9120" y="1295280"/>
            <a:ext cx="86025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carriers pass electrons &amp;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s passed from one electron carrier to next in mitochondrial membrane (ETC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owing electrons = energy to do work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9" name="Picture 47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48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3"/>
          <p:cNvSpPr/>
          <p:nvPr/>
        </p:nvSpPr>
        <p:spPr>
          <a:xfrm>
            <a:off x="53640" y="338760"/>
            <a:ext cx="4861440" cy="11163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4" name="Picture 8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9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4076280" y="6124680"/>
            <a:ext cx="49809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7" name="Group 11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58" name="Oval 12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b7c1eb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b7c1eb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1" descr="09-13-ElectronTransChain-L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f9-13_how_electron_tran_c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___________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4" name="Picture 32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33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67" name="Picture 3" descr="09_03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Rectangle 4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9" name="Rectangle 5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0" name="Rectangle 6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AutoShape 17"/>
          <p:cNvSpPr/>
          <p:nvPr/>
        </p:nvSpPr>
        <p:spPr>
          <a:xfrm>
            <a:off x="471636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81" name="Picture 20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5465160" y="318600"/>
            <a:ext cx="36385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__________________________________________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5" name="Picture 7" descr="f9-16_chemiosmosis_c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_______________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8" name="Picture 13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4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mitchell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3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7"/>
          <p:cNvGrpSpPr/>
          <p:nvPr/>
        </p:nvGrpSpPr>
        <p:grpSpPr>
          <a:xfrm>
            <a:off x="366840" y="442800"/>
            <a:ext cx="8410320" cy="6307200"/>
            <a:chOff x="366840" y="442800"/>
            <a:chExt cx="8410320" cy="6307200"/>
          </a:xfrm>
        </p:grpSpPr>
        <p:pic>
          <p:nvPicPr>
            <p:cNvPr id="300" name="Picture 5" descr="09_17"/>
            <p:cNvPicPr/>
            <p:nvPr/>
          </p:nvPicPr>
          <p:blipFill>
            <a:blip r:embed="rId1"/>
            <a:stretch/>
          </p:blipFill>
          <p:spPr>
            <a:xfrm>
              <a:off x="366840" y="442800"/>
              <a:ext cx="8410320" cy="63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6"/>
            <p:cNvSpPr/>
            <p:nvPr/>
          </p:nvSpPr>
          <p:spPr>
            <a:xfrm>
              <a:off x="3884760" y="105084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5583240" y="478476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3" name="Rectangle 8"/>
            <p:cNvSpPr/>
            <p:nvPr/>
          </p:nvSpPr>
          <p:spPr>
            <a:xfrm>
              <a:off x="6424920" y="41497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9"/>
            <p:cNvSpPr/>
            <p:nvPr/>
          </p:nvSpPr>
          <p:spPr>
            <a:xfrm>
              <a:off x="6418080" y="43560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Rectangle 10"/>
            <p:cNvSpPr/>
            <p:nvPr/>
          </p:nvSpPr>
          <p:spPr>
            <a:xfrm>
              <a:off x="4997880" y="20638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7117920" y="1960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Rectangle 12"/>
            <p:cNvSpPr/>
            <p:nvPr/>
          </p:nvSpPr>
          <p:spPr>
            <a:xfrm>
              <a:off x="5135040" y="5408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8" name="Rectangle 13"/>
            <p:cNvSpPr/>
            <p:nvPr/>
          </p:nvSpPr>
          <p:spPr>
            <a:xfrm>
              <a:off x="1235160" y="527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872640" y="5256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627120" y="776160"/>
              <a:ext cx="13633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ruvate fro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1" name="Rectangle 16"/>
            <p:cNvSpPr/>
            <p:nvPr/>
          </p:nvSpPr>
          <p:spPr>
            <a:xfrm>
              <a:off x="938160" y="109224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2" name="Rectangle 17"/>
            <p:cNvSpPr/>
            <p:nvPr/>
          </p:nvSpPr>
          <p:spPr>
            <a:xfrm>
              <a:off x="7414920" y="1461960"/>
              <a:ext cx="8892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7544880" y="5899320"/>
              <a:ext cx="8784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4" name="Rectangle 19"/>
            <p:cNvSpPr/>
            <p:nvPr/>
          </p:nvSpPr>
          <p:spPr>
            <a:xfrm>
              <a:off x="5815080" y="378612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20"/>
            <p:cNvSpPr/>
            <p:nvPr/>
          </p:nvSpPr>
          <p:spPr>
            <a:xfrm>
              <a:off x="1986120" y="479916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6" name="Rectangle 21"/>
            <p:cNvSpPr/>
            <p:nvPr/>
          </p:nvSpPr>
          <p:spPr>
            <a:xfrm>
              <a:off x="1041840" y="3994200"/>
              <a:ext cx="575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7" name="Rectangle 22"/>
            <p:cNvSpPr/>
            <p:nvPr/>
          </p:nvSpPr>
          <p:spPr>
            <a:xfrm>
              <a:off x="6510960" y="728640"/>
              <a:ext cx="1463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8" name="Rectangle 23"/>
            <p:cNvSpPr/>
            <p:nvPr/>
          </p:nvSpPr>
          <p:spPr>
            <a:xfrm>
              <a:off x="2364120" y="852480"/>
              <a:ext cx="133884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9" name="Rectangle 24"/>
            <p:cNvSpPr/>
            <p:nvPr/>
          </p:nvSpPr>
          <p:spPr>
            <a:xfrm>
              <a:off x="2465280" y="3065400"/>
              <a:ext cx="2563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1. Electrons are harvested and carried to the transport system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0" name="Rectangle 25"/>
            <p:cNvSpPr/>
            <p:nvPr/>
          </p:nvSpPr>
          <p:spPr>
            <a:xfrm>
              <a:off x="5105520" y="2712960"/>
              <a:ext cx="160020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2. Electrons provide energy </a:t>
              </a:r>
              <a:br>
                <a:rPr sz="1500"/>
              </a:b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to pump protons across the membrane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1" name="Rectangle 26"/>
            <p:cNvSpPr/>
            <p:nvPr/>
          </p:nvSpPr>
          <p:spPr>
            <a:xfrm>
              <a:off x="3962520" y="4052880"/>
              <a:ext cx="17604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3. Oxygen joins    with protons to form water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2" name="Rectangle 27"/>
            <p:cNvSpPr/>
            <p:nvPr/>
          </p:nvSpPr>
          <p:spPr>
            <a:xfrm>
              <a:off x="6321240" y="4551480"/>
              <a:ext cx="32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3" name="Rectangle 28"/>
            <p:cNvSpPr/>
            <p:nvPr/>
          </p:nvSpPr>
          <p:spPr>
            <a:xfrm>
              <a:off x="2004120" y="365616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4" name="Rectangle 29"/>
            <p:cNvSpPr/>
            <p:nvPr/>
          </p:nvSpPr>
          <p:spPr>
            <a:xfrm>
              <a:off x="2004120" y="26654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5" name="Rectangle 30"/>
            <p:cNvSpPr/>
            <p:nvPr/>
          </p:nvSpPr>
          <p:spPr>
            <a:xfrm>
              <a:off x="966960" y="3240000"/>
              <a:ext cx="109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etyl-CoA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6" name="Rectangle 31"/>
            <p:cNvSpPr/>
            <p:nvPr/>
          </p:nvSpPr>
          <p:spPr>
            <a:xfrm>
              <a:off x="2487600" y="4133880"/>
              <a:ext cx="6285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7" name="Rectangle 32"/>
            <p:cNvSpPr/>
            <p:nvPr/>
          </p:nvSpPr>
          <p:spPr>
            <a:xfrm>
              <a:off x="5537160" y="53960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2831040" y="5753160"/>
              <a:ext cx="2492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4. Protons diffuse back in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down their concentration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gradient, driving the 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synthesis of ATP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9" name="Rectangle 34"/>
            <p:cNvSpPr/>
            <p:nvPr/>
          </p:nvSpPr>
          <p:spPr>
            <a:xfrm>
              <a:off x="794160" y="6105600"/>
              <a:ext cx="1384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 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>
              <a:off x="6210000" y="4265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>
              <a:off x="6210000" y="405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2" name="Line 37"/>
            <p:cNvSpPr/>
            <p:nvPr/>
          </p:nvSpPr>
          <p:spPr>
            <a:xfrm>
              <a:off x="2927520" y="165744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Line 38"/>
            <p:cNvSpPr/>
            <p:nvPr/>
          </p:nvSpPr>
          <p:spPr>
            <a:xfrm>
              <a:off x="6140520" y="4287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Rectangle 39"/>
            <p:cNvSpPr/>
            <p:nvPr/>
          </p:nvSpPr>
          <p:spPr>
            <a:xfrm>
              <a:off x="5873760" y="92880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Rectangle 40"/>
            <p:cNvSpPr/>
            <p:nvPr/>
          </p:nvSpPr>
          <p:spPr>
            <a:xfrm>
              <a:off x="8085240" y="268128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Rectangle 41"/>
            <p:cNvSpPr/>
            <p:nvPr/>
          </p:nvSpPr>
          <p:spPr>
            <a:xfrm>
              <a:off x="8029800" y="42703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Rectangle 42"/>
            <p:cNvSpPr/>
            <p:nvPr/>
          </p:nvSpPr>
          <p:spPr>
            <a:xfrm>
              <a:off x="7942320" y="523872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8" name="Rectangle 43"/>
            <p:cNvSpPr/>
            <p:nvPr/>
          </p:nvSpPr>
          <p:spPr>
            <a:xfrm>
              <a:off x="7289640" y="314640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9" name="Rectangle 44"/>
            <p:cNvSpPr/>
            <p:nvPr/>
          </p:nvSpPr>
          <p:spPr>
            <a:xfrm>
              <a:off x="3660480" y="39765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Rectangle 45"/>
            <p:cNvSpPr/>
            <p:nvPr/>
          </p:nvSpPr>
          <p:spPr>
            <a:xfrm>
              <a:off x="3051000" y="36561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1" name="Rectangle 46"/>
            <p:cNvSpPr/>
            <p:nvPr/>
          </p:nvSpPr>
          <p:spPr>
            <a:xfrm>
              <a:off x="2898360" y="26812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4"/>
          <p:cNvSpPr/>
          <p:nvPr/>
        </p:nvSpPr>
        <p:spPr>
          <a:xfrm>
            <a:off x="821160" y="591588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3616920" y="592848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6400080" y="5922360"/>
            <a:ext cx="174456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~36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2619360" y="58399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54165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3" name="Rectangle 5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4" name="Rectangle 6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Rectangle 7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69" name="Group 34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70" name="Picture 10" descr="09_15b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1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5" name="Rectangle 15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8" name="Rectangle 18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9" name="Rectangle 19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0" name="Rectangle 20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1" name="Rectangle 21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3" name="Rectangle 23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4" name="Text Box 24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85" name="Group 25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86" name="Line 26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7" name="Text Box 27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88" name="Rectangle 28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9" name="Rectangle 29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0" name="Rectangle 30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1" name="AutoShape 31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41040 w 280800"/>
                <a:gd name="textAreaRight" fmla="*/ 239760 w 280800"/>
                <a:gd name="textAreaTop" fmla="*/ 34920 h 236520"/>
                <a:gd name="textAreaBottom" fmla="*/ 20160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0" y="10800"/>
                  </a:moveTo>
                  <a:cubicBezTo>
                    <a:pt x="20160" y="5630"/>
                    <a:pt x="15969" y="1440"/>
                    <a:pt x="10800" y="1440"/>
                  </a:cubicBezTo>
                  <a:cubicBezTo>
                    <a:pt x="5630" y="1440"/>
                    <a:pt x="1440" y="5630"/>
                    <a:pt x="144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lnTo>
                    <a:pt x="201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2" name="Text Box 32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3" name="Rectangle 33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716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95" name="Group 9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396" name="Picture 10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398" name="Picture 12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99" name="AutoShape 13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0" name="Picture 14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5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AutoShape 16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6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7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09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0" name="AutoShape 6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0" name="AutoShape 8"/>
          <p:cNvSpPr/>
          <p:nvPr/>
        </p:nvSpPr>
        <p:spPr>
          <a:xfrm flipH="1">
            <a:off x="1291680" y="4548240"/>
            <a:ext cx="1734840" cy="1073160"/>
          </a:xfrm>
          <a:prstGeom prst="wedgeEllipseCallout">
            <a:avLst>
              <a:gd name="adj1" fmla="val -107731"/>
              <a:gd name="adj2" fmla="val 11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 need a lo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ore 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proteins built in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4" name="Oval 8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26" name="Picture 10" descr="penguinL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 flipH="1">
            <a:off x="1888560" y="5784840"/>
            <a:ext cx="1734840" cy="1073160"/>
          </a:xfrm>
          <a:prstGeom prst="wedgeEllipseCallout">
            <a:avLst>
              <a:gd name="adj1" fmla="val 97847"/>
              <a:gd name="adj2" fmla="val -4097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8" name="Picture 13" descr="09_15b"/>
          <p:cNvPicPr/>
          <p:nvPr/>
        </p:nvPicPr>
        <p:blipFill>
          <a:blip r:embed="rId2"/>
          <a:srcRect l="28129" t="27000" r="7878" b="39000"/>
          <a:stretch/>
        </p:blipFill>
        <p:spPr>
          <a:xfrm>
            <a:off x="5910120" y="378000"/>
            <a:ext cx="3132360" cy="124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Oval 4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4" name="Picture 8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9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Picture 3" descr="09_15b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249640" y="2100240"/>
            <a:ext cx="2663640" cy="33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6852240" y="1666800"/>
            <a:ext cx="1770120" cy="91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ochondr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bran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7426440" y="2587680"/>
            <a:ext cx="37944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Freeform 31"/>
          <p:cNvSpPr/>
          <p:nvPr/>
        </p:nvSpPr>
        <p:spPr>
          <a:xfrm>
            <a:off x="-144360" y="1424160"/>
            <a:ext cx="9642240" cy="696600"/>
          </a:xfrm>
          <a:custGeom>
            <a:avLst/>
            <a:gdLst/>
            <a:ahLst/>
            <a:rect l="l" t="t" r="r" b="b"/>
            <a:pathLst>
              <a:path w="6074" h="439">
                <a:moveTo>
                  <a:pt x="0" y="439"/>
                </a:moveTo>
                <a:cubicBezTo>
                  <a:pt x="273" y="303"/>
                  <a:pt x="546" y="168"/>
                  <a:pt x="1011" y="99"/>
                </a:cubicBezTo>
                <a:cubicBezTo>
                  <a:pt x="1476" y="30"/>
                  <a:pt x="2199" y="42"/>
                  <a:pt x="2793" y="27"/>
                </a:cubicBezTo>
                <a:cubicBezTo>
                  <a:pt x="3387" y="12"/>
                  <a:pt x="4102" y="3"/>
                  <a:pt x="4575" y="8"/>
                </a:cubicBezTo>
                <a:cubicBezTo>
                  <a:pt x="5048" y="13"/>
                  <a:pt x="5383" y="0"/>
                  <a:pt x="5633" y="56"/>
                </a:cubicBezTo>
                <a:cubicBezTo>
                  <a:pt x="5883" y="112"/>
                  <a:pt x="5978" y="227"/>
                  <a:pt x="6074" y="343"/>
                </a:cubicBezTo>
              </a:path>
            </a:pathLst>
          </a:custGeom>
          <a:noFill/>
          <a:ln w="2541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8" name="Group 34"/>
          <p:cNvGrpSpPr/>
          <p:nvPr/>
        </p:nvGrpSpPr>
        <p:grpSpPr>
          <a:xfrm>
            <a:off x="-76320" y="2309760"/>
            <a:ext cx="9372240" cy="1868400"/>
            <a:chOff x="-76320" y="2309760"/>
            <a:chExt cx="9372240" cy="1868400"/>
          </a:xfrm>
        </p:grpSpPr>
        <p:sp>
          <p:nvSpPr>
            <p:cNvPr id="149" name="Freeform 32"/>
            <p:cNvSpPr/>
            <p:nvPr/>
          </p:nvSpPr>
          <p:spPr>
            <a:xfrm>
              <a:off x="-76320" y="2317680"/>
              <a:ext cx="228132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 flipH="1">
              <a:off x="8089200" y="2309760"/>
              <a:ext cx="120636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03320" y="1292040"/>
            <a:ext cx="210492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6299280" y="1190520"/>
            <a:ext cx="248904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7349040" y="2893680"/>
            <a:ext cx="1585080" cy="1042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21120" y="2965680"/>
            <a:ext cx="1466280" cy="542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9" name="Group 12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60" name="Picture 13" descr="piggybankFADH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4" descr="piggybank-ecoin2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AutoShape 10"/>
          <p:cNvSpPr/>
          <p:nvPr/>
        </p:nvSpPr>
        <p:spPr>
          <a:xfrm>
            <a:off x="104760" y="4221000"/>
            <a:ext cx="2000160" cy="1254240"/>
          </a:xfrm>
          <a:prstGeom prst="wedgeEllipseCallout">
            <a:avLst>
              <a:gd name="adj1" fmla="val 14523"/>
              <a:gd name="adj2" fmla="val 901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iggy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Picture 3" descr="09_15b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2840040" y="247644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6" name="Line 17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Text Box 23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8" name="Rectangle 24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AutoShape 27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69480 w 476280"/>
              <a:gd name="textAreaRight" fmla="*/ 406800 w 476280"/>
              <a:gd name="textAreaTop" fmla="*/ 57960 h 396720"/>
              <a:gd name="textAreaBottom" fmla="*/ 338760 h 396720"/>
            </a:gdLst>
            <a:ahLst/>
            <a:rect l="textAreaLeft" t="textAreaTop" r="textAreaRight" b="textAreaBottom"/>
            <a:pathLst>
              <a:path w="21600" h="21600">
                <a:moveTo>
                  <a:pt x="20160" y="10800"/>
                </a:moveTo>
                <a:cubicBezTo>
                  <a:pt x="20160" y="5630"/>
                  <a:pt x="15969" y="1440"/>
                  <a:pt x="10800" y="1440"/>
                </a:cubicBezTo>
                <a:cubicBezTo>
                  <a:pt x="5630" y="1440"/>
                  <a:pt x="1440" y="5630"/>
                  <a:pt x="144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lnTo>
                  <a:pt x="201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7" name="Oval 35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Freeform 39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Oval 41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201" name="Oval 44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Oval 45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3" name="Oval 46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4" name="Line 47"/>
          <p:cNvSpPr/>
          <p:nvPr/>
        </p:nvSpPr>
        <p:spPr>
          <a:xfrm flipV="1">
            <a:off x="29876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Line 48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Line 49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AutoShape 51"/>
          <p:cNvSpPr/>
          <p:nvPr/>
        </p:nvSpPr>
        <p:spPr>
          <a:xfrm>
            <a:off x="4750920" y="1289520"/>
            <a:ext cx="4204800" cy="542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9-01-13T00:07:18Z</cp:lastPrinted>
  <dcterms:modified xsi:type="dcterms:W3CDTF">2010-09-22T01:01:01Z</dcterms:modified>
  <cp:revision>51</cp:revision>
  <dc:subject/>
  <dc:title>Cellular Respiration  Stage 4:    Electron Transport Chain</dc:title>
</cp:coreProperties>
</file>