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Pig.wav" ContentType="audio/x-wav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DD5-616C-488C-A069-C10FF7CCC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34AA-1851-4284-96D5-95B0766D6A5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C29A-882E-45FD-A48A-12E1C316202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3E7C-8610-414C-B922-6ABD6F6DFA5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7B43-54BF-4D66-9EC4-071418A753C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2102-636F-4211-8E22-8358C343941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0699-5E57-4D71-85FA-FDD622726CA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4296-8F9B-4CBC-9D27-8A056BBAFAC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CA14-355C-4EED-90D0-A23157C9DF1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7FAE-092A-4515-BF9D-C5395CE7640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96D9-7C43-47C7-9D48-2FD206F96FC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2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6C75-9A8B-4955-823F-DE2F307B9C1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C7A-4242-4EF0-8F20-141AAA7AA1D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F286-C819-4929-9877-7C9BE15886F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6BC4-F2B3-45C0-A7A8-69831A9625E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A384F-14D5-43FB-8E27-C7AC6B33AAB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9DC5-F590-4F36-AB8A-3F44EF68472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5304-40AC-4FEF-BD9F-E0D5E13B32A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1497-58CF-48C2-8A0C-68EA536AD56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2712-5260-443E-8ED8-5FE18AEAA63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C97B-5212-4FF2-95A7-07FF0C89D15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4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10" name="Picture 35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1" name="Rectangle 36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AutoShape 45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1" name="Group 33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2" name="Picture 8" descr="09_15b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9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37" name="Group 32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8" name="Line 24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9" name="Text Box 25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0" name="Rectangle 26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AutoShape 29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40320 w 281160"/>
                <a:gd name="textAreaRight" fmla="*/ 240840 w 281160"/>
                <a:gd name="textAreaTop" fmla="*/ 33840 h 235800"/>
                <a:gd name="textAreaBottom" fmla="*/ 2019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9" name="Picture 47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8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3"/>
          <p:cNvSpPr/>
          <p:nvPr/>
        </p:nvSpPr>
        <p:spPr>
          <a:xfrm>
            <a:off x="53640" y="338760"/>
            <a:ext cx="4861440" cy="11163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4076280" y="6124680"/>
            <a:ext cx="49809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7" name="Group 11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58" name="Oval 12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b7c1eb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b7c1eb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1" descr="09-13-ElectronTransChain-L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f9-13_how_electron_tran_c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___________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4" name="Picture 3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33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67" name="Picture 3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4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Rectangle 5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471636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1" name="Picture 20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5465160" y="318600"/>
            <a:ext cx="36385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__________________________________________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5" name="Picture 7" descr="f9-16_chemiosmosis_c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______________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Picture 13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4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itchell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3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7"/>
          <p:cNvGrpSpPr/>
          <p:nvPr/>
        </p:nvGrpSpPr>
        <p:grpSpPr>
          <a:xfrm>
            <a:off x="366840" y="442800"/>
            <a:ext cx="8410320" cy="6307200"/>
            <a:chOff x="366840" y="442800"/>
            <a:chExt cx="8410320" cy="6307200"/>
          </a:xfrm>
        </p:grpSpPr>
        <p:pic>
          <p:nvPicPr>
            <p:cNvPr id="300" name="Picture 5" descr="09_17"/>
            <p:cNvPicPr/>
            <p:nvPr/>
          </p:nvPicPr>
          <p:blipFill>
            <a:blip r:embed="rId1"/>
            <a:stretch/>
          </p:blipFill>
          <p:spPr>
            <a:xfrm>
              <a:off x="366840" y="442800"/>
              <a:ext cx="8410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6"/>
            <p:cNvSpPr/>
            <p:nvPr/>
          </p:nvSpPr>
          <p:spPr>
            <a:xfrm>
              <a:off x="3884760" y="105084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5583240" y="478476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6424920" y="41497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9"/>
            <p:cNvSpPr/>
            <p:nvPr/>
          </p:nvSpPr>
          <p:spPr>
            <a:xfrm>
              <a:off x="6418080" y="43560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Rectangle 10"/>
            <p:cNvSpPr/>
            <p:nvPr/>
          </p:nvSpPr>
          <p:spPr>
            <a:xfrm>
              <a:off x="4997880" y="20638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7117920" y="196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5135040" y="5408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Rectangle 13"/>
            <p:cNvSpPr/>
            <p:nvPr/>
          </p:nvSpPr>
          <p:spPr>
            <a:xfrm>
              <a:off x="1235160" y="527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872640" y="525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627120" y="776160"/>
              <a:ext cx="1363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ruvate fro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938160" y="109224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7414920" y="1461960"/>
              <a:ext cx="8892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7544880" y="5899320"/>
              <a:ext cx="878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Rectangle 19"/>
            <p:cNvSpPr/>
            <p:nvPr/>
          </p:nvSpPr>
          <p:spPr>
            <a:xfrm>
              <a:off x="5815080" y="378612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1986120" y="479916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1041840" y="3994200"/>
              <a:ext cx="57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6510960" y="728640"/>
              <a:ext cx="1463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Rectangle 23"/>
            <p:cNvSpPr/>
            <p:nvPr/>
          </p:nvSpPr>
          <p:spPr>
            <a:xfrm>
              <a:off x="2364120" y="852480"/>
              <a:ext cx="13388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9" name="Rectangle 24"/>
            <p:cNvSpPr/>
            <p:nvPr/>
          </p:nvSpPr>
          <p:spPr>
            <a:xfrm>
              <a:off x="2465280" y="3065400"/>
              <a:ext cx="256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1. Electrons are harvested and carried to the transport system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5105520" y="27129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2. Electrons provide energy </a:t>
              </a:r>
              <a:br>
                <a:rPr sz="1500"/>
              </a:b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to pump protons across the membrane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Rectangle 26"/>
            <p:cNvSpPr/>
            <p:nvPr/>
          </p:nvSpPr>
          <p:spPr>
            <a:xfrm>
              <a:off x="3962520" y="4052880"/>
              <a:ext cx="17604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3. Oxygen joins    with protons to form water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6321240" y="45514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2004120" y="365616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2004120" y="266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30"/>
            <p:cNvSpPr/>
            <p:nvPr/>
          </p:nvSpPr>
          <p:spPr>
            <a:xfrm>
              <a:off x="966960" y="3240000"/>
              <a:ext cx="10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tyl-CoA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Rectangle 31"/>
            <p:cNvSpPr/>
            <p:nvPr/>
          </p:nvSpPr>
          <p:spPr>
            <a:xfrm>
              <a:off x="2487600" y="4133880"/>
              <a:ext cx="628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Rectangle 32"/>
            <p:cNvSpPr/>
            <p:nvPr/>
          </p:nvSpPr>
          <p:spPr>
            <a:xfrm>
              <a:off x="5537160" y="5396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2831040" y="5753160"/>
              <a:ext cx="2492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4. Protons diffuse back i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down their concentratio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gradient, driving the 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synthesis of ATP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9" name="Rectangle 34"/>
            <p:cNvSpPr/>
            <p:nvPr/>
          </p:nvSpPr>
          <p:spPr>
            <a:xfrm>
              <a:off x="794160" y="6105600"/>
              <a:ext cx="1384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6210000" y="4265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6210000" y="405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Line 37"/>
            <p:cNvSpPr/>
            <p:nvPr/>
          </p:nvSpPr>
          <p:spPr>
            <a:xfrm>
              <a:off x="2927520" y="165744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Line 38"/>
            <p:cNvSpPr/>
            <p:nvPr/>
          </p:nvSpPr>
          <p:spPr>
            <a:xfrm>
              <a:off x="6140520" y="4287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39"/>
            <p:cNvSpPr/>
            <p:nvPr/>
          </p:nvSpPr>
          <p:spPr>
            <a:xfrm>
              <a:off x="5873760" y="928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Rectangle 40"/>
            <p:cNvSpPr/>
            <p:nvPr/>
          </p:nvSpPr>
          <p:spPr>
            <a:xfrm>
              <a:off x="8085240" y="268128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Rectangle 41"/>
            <p:cNvSpPr/>
            <p:nvPr/>
          </p:nvSpPr>
          <p:spPr>
            <a:xfrm>
              <a:off x="8029800" y="42703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42"/>
            <p:cNvSpPr/>
            <p:nvPr/>
          </p:nvSpPr>
          <p:spPr>
            <a:xfrm>
              <a:off x="7942320" y="523872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>
              <a:off x="7289640" y="314640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9" name="Rectangle 44"/>
            <p:cNvSpPr/>
            <p:nvPr/>
          </p:nvSpPr>
          <p:spPr>
            <a:xfrm>
              <a:off x="3660480" y="3976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45"/>
            <p:cNvSpPr/>
            <p:nvPr/>
          </p:nvSpPr>
          <p:spPr>
            <a:xfrm>
              <a:off x="3051000" y="3656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1" name="Rectangle 46"/>
            <p:cNvSpPr/>
            <p:nvPr/>
          </p:nvSpPr>
          <p:spPr>
            <a:xfrm>
              <a:off x="2898360" y="26812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4"/>
          <p:cNvSpPr/>
          <p:nvPr/>
        </p:nvSpPr>
        <p:spPr>
          <a:xfrm>
            <a:off x="821160" y="59158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3616920" y="59284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6400080" y="592236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619360" y="58399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3" name="Rectangle 5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69" name="Group 34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0" name="Picture 10" descr="09_15b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1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Rectangle 20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Rectangle 23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85" name="Group 25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86" name="Line 26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7" name="Text Box 27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88" name="Rectangle 28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1" name="AutoShape 31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41040 w 280800"/>
                <a:gd name="textAreaRight" fmla="*/ 239760 w 280800"/>
                <a:gd name="textAreaTop" fmla="*/ 34920 h 236520"/>
                <a:gd name="textAreaBottom" fmla="*/ 20160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2" name="Text Box 32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716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396" name="Picture 10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98" name="Picture 12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9" name="AutoShape 13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0" name="Picture 14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5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AutoShape 16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6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7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09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0" name="AutoShape 8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4" name="Oval 8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6" name="Picture 10" descr="penguinL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 flipH="1">
            <a:off x="1888560" y="5784840"/>
            <a:ext cx="1734840" cy="1073160"/>
          </a:xfrm>
          <a:prstGeom prst="wedgeEllipseCallout">
            <a:avLst>
              <a:gd name="adj1" fmla="val 97847"/>
              <a:gd name="adj2" fmla="val -40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8" name="Picture 13" descr="09_15b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24964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6852240" y="1666800"/>
            <a:ext cx="1770120" cy="91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ochond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7426440" y="2587680"/>
            <a:ext cx="37944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Freeform 31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8" name="Group 34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9" name="Freeform 32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03320" y="1292040"/>
            <a:ext cx="210492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6299280" y="1190520"/>
            <a:ext cx="248904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349040" y="2893680"/>
            <a:ext cx="1585080" cy="1042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1120" y="2965680"/>
            <a:ext cx="1466280" cy="542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9" name="Group 12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60" name="Picture 13" descr="piggybankFADH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4" descr="piggybank-ecoin2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AutoShape 10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2840040" y="247644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6" name="Line 17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Text Box 23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8" name="Rectangle 24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69480 w 476280"/>
              <a:gd name="textAreaRight" fmla="*/ 406800 w 476280"/>
              <a:gd name="textAreaTop" fmla="*/ 57960 h 396720"/>
              <a:gd name="textAreaBottom" fmla="*/ 338760 h 396720"/>
            </a:gdLst>
            <a:ahLst/>
            <a:rect l="textAreaLeft" t="textAreaTop" r="textAreaRight" b="textAreaBottom"/>
            <a:pathLst>
              <a:path w="21600" h="21600">
                <a:moveTo>
                  <a:pt x="20160" y="10800"/>
                </a:moveTo>
                <a:cubicBezTo>
                  <a:pt x="20160" y="5630"/>
                  <a:pt x="15969" y="1440"/>
                  <a:pt x="10800" y="1440"/>
                </a:cubicBezTo>
                <a:cubicBezTo>
                  <a:pt x="5630" y="1440"/>
                  <a:pt x="1440" y="5630"/>
                  <a:pt x="144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lnTo>
                  <a:pt x="201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Oval 41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1" name="Oval 44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Oval 45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Oval 46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4" name="Line 47"/>
          <p:cNvSpPr/>
          <p:nvPr/>
        </p:nvSpPr>
        <p:spPr>
          <a:xfrm flipV="1">
            <a:off x="29876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Line 48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Line 49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AutoShape 51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9-01-13T00:07:18Z</cp:lastPrinted>
  <dcterms:modified xsi:type="dcterms:W3CDTF">2010-09-22T01:01:01Z</dcterms:modified>
  <cp:revision>51</cp:revision>
  <dc:subject/>
  <dc:title>Cellular Respiration  Stage 4:    Electron Transport Chain</dc:title>
</cp:coreProperties>
</file>