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7431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36888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36888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7431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36888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1 Chromosomes and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74312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533520" y="8380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H 7.1-7.2 Alternate Forms of 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16"/>
          <p:cNvGrpSpPr/>
          <p:nvPr/>
        </p:nvGrpSpPr>
        <p:grpSpPr>
          <a:xfrm>
            <a:off x="685800" y="2133720"/>
            <a:ext cx="7238520" cy="4723920"/>
            <a:chOff x="685800" y="2133720"/>
            <a:chExt cx="7238520" cy="4723920"/>
          </a:xfrm>
        </p:grpSpPr>
        <p:pic>
          <p:nvPicPr>
            <p:cNvPr id="82" name="Picture 7" descr="bhspe-0307co-012"/>
            <p:cNvPicPr/>
            <p:nvPr/>
          </p:nvPicPr>
          <p:blipFill>
            <a:blip r:embed="rId1"/>
            <a:stretch/>
          </p:blipFill>
          <p:spPr>
            <a:xfrm>
              <a:off x="5487840" y="2133720"/>
              <a:ext cx="1289880" cy="15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8" descr="bhspe-0307co-002"/>
            <p:cNvPicPr/>
            <p:nvPr/>
          </p:nvPicPr>
          <p:blipFill>
            <a:blip r:embed="rId2"/>
            <a:stretch/>
          </p:blipFill>
          <p:spPr>
            <a:xfrm>
              <a:off x="685800" y="2145600"/>
              <a:ext cx="1289880" cy="15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9" descr="bhspe-0307co-003"/>
            <p:cNvPicPr/>
            <p:nvPr/>
          </p:nvPicPr>
          <p:blipFill>
            <a:blip r:embed="rId3"/>
            <a:stretch/>
          </p:blipFill>
          <p:spPr>
            <a:xfrm>
              <a:off x="3122640" y="2144160"/>
              <a:ext cx="1361520" cy="154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10" descr="bhspe-0307co-004"/>
            <p:cNvPicPr/>
            <p:nvPr/>
          </p:nvPicPr>
          <p:blipFill>
            <a:blip r:embed="rId4"/>
            <a:stretch/>
          </p:blipFill>
          <p:spPr>
            <a:xfrm>
              <a:off x="5323680" y="5299560"/>
              <a:ext cx="1310760" cy="15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11" descr="bhspe-0307co-006"/>
            <p:cNvPicPr/>
            <p:nvPr/>
          </p:nvPicPr>
          <p:blipFill>
            <a:blip r:embed="rId5"/>
            <a:stretch/>
          </p:blipFill>
          <p:spPr>
            <a:xfrm>
              <a:off x="1473840" y="3728880"/>
              <a:ext cx="1791720" cy="15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2" descr="bhspe-0307co-007"/>
            <p:cNvPicPr/>
            <p:nvPr/>
          </p:nvPicPr>
          <p:blipFill>
            <a:blip r:embed="rId6"/>
            <a:stretch/>
          </p:blipFill>
          <p:spPr>
            <a:xfrm>
              <a:off x="4269240" y="3728880"/>
              <a:ext cx="1218600" cy="15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3" descr="bhspe-0307co-008"/>
            <p:cNvPicPr/>
            <p:nvPr/>
          </p:nvPicPr>
          <p:blipFill>
            <a:blip r:embed="rId7"/>
            <a:stretch/>
          </p:blipFill>
          <p:spPr>
            <a:xfrm>
              <a:off x="6546240" y="3704400"/>
              <a:ext cx="1378080" cy="15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14" descr="bhspe-0307co-010"/>
            <p:cNvPicPr/>
            <p:nvPr/>
          </p:nvPicPr>
          <p:blipFill>
            <a:blip r:embed="rId8"/>
            <a:stretch/>
          </p:blipFill>
          <p:spPr>
            <a:xfrm>
              <a:off x="3122640" y="5311800"/>
              <a:ext cx="1312200" cy="154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15" descr="bhspe-0307co-011"/>
            <p:cNvPicPr/>
            <p:nvPr/>
          </p:nvPicPr>
          <p:blipFill>
            <a:blip r:embed="rId9"/>
            <a:stretch/>
          </p:blipFill>
          <p:spPr>
            <a:xfrm>
              <a:off x="685800" y="5311800"/>
              <a:ext cx="1289880" cy="15458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04920" y="1523880"/>
            <a:ext cx="457200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lowers white and red are co-do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zygous red =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zygous white = 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zygous red and white = R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ack female is crossed with a white m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029200" y="1676520"/>
          <a:ext cx="3429000" cy="26668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32" name="Content Placeholder 2"/>
          <p:cNvSpPr/>
          <p:nvPr/>
        </p:nvSpPr>
        <p:spPr>
          <a:xfrm>
            <a:off x="5029200" y="4648320"/>
            <a:ext cx="3429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= R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= red and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520" y="922320"/>
            <a:ext cx="82296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ominant alleles will both be completely expre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533520" y="1406520"/>
            <a:ext cx="3047760" cy="38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ominant alleles are neither dominant nor reces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 blood types result from codominant alle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1" descr="205.gif                                                        0006B018 Macintosh                      BEB7E0B0:"/>
          <p:cNvPicPr/>
          <p:nvPr/>
        </p:nvPicPr>
        <p:blipFill>
          <a:blip r:embed="rId1"/>
          <a:stretch/>
        </p:blipFill>
        <p:spPr>
          <a:xfrm>
            <a:off x="3581280" y="1523880"/>
            <a:ext cx="4648320" cy="3614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2"/>
          <p:cNvSpPr/>
          <p:nvPr/>
        </p:nvSpPr>
        <p:spPr>
          <a:xfrm>
            <a:off x="533520" y="52578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genes have more than two alle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04920" y="1523520"/>
            <a:ext cx="4572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ype has a couple types of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alleles (A, B, 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dominance (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-recessive (O recessive to A&amp;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029200" y="1066680"/>
          <a:ext cx="3429000" cy="25704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en-US" sz="24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39" name="Content Placeholder 2"/>
          <p:cNvSpPr/>
          <p:nvPr/>
        </p:nvSpPr>
        <p:spPr>
          <a:xfrm>
            <a:off x="2819520" y="4419720"/>
            <a:ext cx="350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zygous A crossed with Heterozygou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6477120" y="4191120"/>
            <a:ext cx="152388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3920" y="826920"/>
            <a:ext cx="8686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Many genes may interact to produce one trait.   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3526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genic traits are produced by two or more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2"/>
          <p:cNvGrpSpPr/>
          <p:nvPr/>
        </p:nvGrpSpPr>
        <p:grpSpPr>
          <a:xfrm>
            <a:off x="895320" y="1596960"/>
            <a:ext cx="7334280" cy="5108760"/>
            <a:chOff x="895320" y="1596960"/>
            <a:chExt cx="7334280" cy="5108760"/>
          </a:xfrm>
        </p:grpSpPr>
        <p:pic>
          <p:nvPicPr>
            <p:cNvPr id="144" name="Picture 9" descr="206b.jpg                                                       0006B018 Macintosh                      BEB7E0B0:"/>
            <p:cNvPicPr/>
            <p:nvPr/>
          </p:nvPicPr>
          <p:blipFill>
            <a:blip r:embed="rId2"/>
            <a:stretch/>
          </p:blipFill>
          <p:spPr>
            <a:xfrm>
              <a:off x="4076640" y="1596960"/>
              <a:ext cx="4114800" cy="2765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5" name="Group 11"/>
            <p:cNvGrpSpPr/>
            <p:nvPr/>
          </p:nvGrpSpPr>
          <p:grpSpPr>
            <a:xfrm>
              <a:off x="895320" y="3809880"/>
              <a:ext cx="7334280" cy="2895840"/>
              <a:chOff x="895320" y="3809880"/>
              <a:chExt cx="7334280" cy="2895840"/>
            </a:xfrm>
          </p:grpSpPr>
          <p:pic>
            <p:nvPicPr>
              <p:cNvPr id="146" name="Picture 8" descr="206a.gif                                                       0006B018 Macintosh                      BEB7E0B0:"/>
              <p:cNvPicPr/>
              <p:nvPr/>
            </p:nvPicPr>
            <p:blipFill>
              <a:blip r:embed="rId3"/>
              <a:stretch/>
            </p:blipFill>
            <p:spPr>
              <a:xfrm>
                <a:off x="914400" y="4494240"/>
                <a:ext cx="7315200" cy="221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Text Box 10"/>
              <p:cNvSpPr/>
              <p:nvPr/>
            </p:nvSpPr>
            <p:spPr>
              <a:xfrm>
                <a:off x="895320" y="3809880"/>
                <a:ext cx="2362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Order of dominance: brown &gt; green &gt; blue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552600" y="928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pistatic gene can interfere with other g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3" descr="bhspe-030702-005"/>
          <p:cNvPicPr/>
          <p:nvPr/>
        </p:nvPicPr>
        <p:blipFill>
          <a:blip r:embed="rId1"/>
          <a:stretch/>
        </p:blipFill>
        <p:spPr>
          <a:xfrm>
            <a:off x="990720" y="1752480"/>
            <a:ext cx="6858000" cy="45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824040"/>
            <a:ext cx="8686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The environment interacts with genotype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33520" y="374652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 is an example of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henotype strongly affec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y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7" descr="822.jpg                                                        0006B018 Macintosh                      BEB7E0B0:"/>
          <p:cNvPicPr/>
          <p:nvPr/>
        </p:nvPicPr>
        <p:blipFill>
          <a:blip r:embed="rId2"/>
          <a:stretch/>
        </p:blipFill>
        <p:spPr>
          <a:xfrm>
            <a:off x="4648320" y="1523880"/>
            <a:ext cx="4249440" cy="4419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530280" y="2577960"/>
            <a:ext cx="382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x of sea turtl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depends on both gen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537120" y="1403280"/>
            <a:ext cx="41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enotype is a combina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f genotype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930240"/>
            <a:ext cx="82296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del’s rules of inheritance apply to autosomal genetic dis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533520" y="1876320"/>
            <a:ext cx="82296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eterozygote for a recessive disorder is a carri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caused by dominant alleles are un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60"/>
          <p:cNvGrpSpPr/>
          <p:nvPr/>
        </p:nvGrpSpPr>
        <p:grpSpPr>
          <a:xfrm>
            <a:off x="2209680" y="2895480"/>
            <a:ext cx="3886200" cy="3759480"/>
            <a:chOff x="2209680" y="2895480"/>
            <a:chExt cx="3886200" cy="3759480"/>
          </a:xfrm>
        </p:grpSpPr>
        <p:grpSp>
          <p:nvGrpSpPr>
            <p:cNvPr id="94" name="Group 59"/>
            <p:cNvGrpSpPr/>
            <p:nvPr/>
          </p:nvGrpSpPr>
          <p:grpSpPr>
            <a:xfrm>
              <a:off x="2209680" y="2895480"/>
              <a:ext cx="3886200" cy="3759480"/>
              <a:chOff x="2209680" y="2895480"/>
              <a:chExt cx="3886200" cy="3759480"/>
            </a:xfrm>
          </p:grpSpPr>
          <p:pic>
            <p:nvPicPr>
              <p:cNvPr id="95" name="Picture 56" descr="_x0018_0201_bhspe-030701.p1.gif                                       00066E95&#9;Macintosh                      BEB7E0B0:"/>
              <p:cNvPicPr/>
              <p:nvPr/>
            </p:nvPicPr>
            <p:blipFill>
              <a:blip r:embed="rId1"/>
              <a:stretch/>
            </p:blipFill>
            <p:spPr>
              <a:xfrm>
                <a:off x="2209680" y="2895480"/>
                <a:ext cx="3886200" cy="37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Rectangle 58"/>
              <p:cNvSpPr/>
              <p:nvPr/>
            </p:nvSpPr>
            <p:spPr>
              <a:xfrm>
                <a:off x="4564080" y="6172200"/>
                <a:ext cx="685800" cy="228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Text Box 57"/>
            <p:cNvSpPr/>
            <p:nvPr/>
          </p:nvSpPr>
          <p:spPr>
            <a:xfrm>
              <a:off x="4465800" y="6138720"/>
              <a:ext cx="823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363636"/>
                  </a:solidFill>
                  <a:latin typeface="Arial Narrow"/>
                </a:rPr>
                <a:t>(dominant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Males and females can differ in sex-linked traits.   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405080"/>
            <a:ext cx="8610480" cy="170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on sex chromosomes are called sex-linked ge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chromosome genes in mammals are responsible for male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chromosome genes in mammals affect many tra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_x0019_0201_bhspe-030701.p1B.gif                                      00066E95&#9;Macintosh                      BEB7E0B0:"/>
          <p:cNvPicPr/>
          <p:nvPr/>
        </p:nvPicPr>
        <p:blipFill>
          <a:blip r:embed="rId2"/>
          <a:stretch/>
        </p:blipFill>
        <p:spPr>
          <a:xfrm>
            <a:off x="2057400" y="3197160"/>
            <a:ext cx="4191120" cy="35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533520" y="9237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 mammals have an XY geno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533520" y="1500120"/>
            <a:ext cx="373356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a male’s sex-linked genes are ex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es have no second copies of sex-linked ge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_x0007_213.jpg 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4114800" y="1581120"/>
            <a:ext cx="4402080" cy="45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533520" y="922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male mammals have an XX geno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4114800" y="48798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1"/>
          <p:cNvSpPr/>
          <p:nvPr/>
        </p:nvSpPr>
        <p:spPr>
          <a:xfrm>
            <a:off x="5181480" y="4575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6324480" y="411804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3"/>
          <p:cNvSpPr/>
          <p:nvPr/>
        </p:nvSpPr>
        <p:spPr>
          <a:xfrm>
            <a:off x="7391520" y="35082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533520" y="1490760"/>
            <a:ext cx="861048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ion of sex-linked genes is similar to autosomal genes in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chromosome inactivation randomly “turns off” one X chromoso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7" descr="_x0007_203.jpg 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1981080" y="3159000"/>
            <a:ext cx="5410440" cy="34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52280" y="914400"/>
            <a:ext cx="8686800" cy="62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-linked traits – reces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blin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ph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mon in 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X from mother, Y from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to inherit only one allele to have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common in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X from mother, second X from f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to inherit both alleles to have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51920" y="914040"/>
            <a:ext cx="480060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colorblin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  = Male with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Y     = Male without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= Female with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X     = Female without tr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  = Female carrier of tra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ontent Placeholder 1"/>
          <p:cNvSpPr/>
          <p:nvPr/>
        </p:nvSpPr>
        <p:spPr>
          <a:xfrm>
            <a:off x="5410080" y="15238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*Female carrier is crossed with normal m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791320" y="3429000"/>
          <a:ext cx="2286000" cy="201132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r>
                        <a:rPr b="1" lang="en-US" sz="2000" spc="-1" strike="noStrike" baseline="30000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pSp>
        <p:nvGrpSpPr>
          <p:cNvPr id="115" name="Group 9"/>
          <p:cNvGrpSpPr/>
          <p:nvPr/>
        </p:nvGrpSpPr>
        <p:grpSpPr>
          <a:xfrm>
            <a:off x="5257800" y="3048120"/>
            <a:ext cx="2666880" cy="2898000"/>
            <a:chOff x="5257800" y="3048120"/>
            <a:chExt cx="2666880" cy="2898000"/>
          </a:xfrm>
        </p:grpSpPr>
        <p:sp>
          <p:nvSpPr>
            <p:cNvPr id="116" name="Rectangle 5"/>
            <p:cNvSpPr/>
            <p:nvPr/>
          </p:nvSpPr>
          <p:spPr>
            <a:xfrm>
              <a:off x="6248160" y="30481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        Y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5257800" y="3657600"/>
              <a:ext cx="6094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Content Placeholder 1"/>
          <p:cNvSpPr/>
          <p:nvPr/>
        </p:nvSpPr>
        <p:spPr>
          <a:xfrm>
            <a:off x="1066680" y="4724280"/>
            <a:ext cx="31244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female car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femal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male color bl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% mal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Bent-Up Arrow 8"/>
          <p:cNvSpPr/>
          <p:nvPr/>
        </p:nvSpPr>
        <p:spPr>
          <a:xfrm rot="10800000">
            <a:off x="1981080" y="4038480"/>
            <a:ext cx="2819520" cy="609840"/>
          </a:xfrm>
          <a:custGeom>
            <a:avLst/>
            <a:gdLst>
              <a:gd name="textAreaLeft" fmla="*/ 0 w 2819520"/>
              <a:gd name="textAreaRight" fmla="*/ 2728080 w 2819520"/>
              <a:gd name="textAreaTop" fmla="*/ 498240 h 609840"/>
              <a:gd name="textAreaBottom" fmla="*/ 6102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497842"/>
                </a:moveTo>
                <a:lnTo>
                  <a:pt x="2616199" y="497842"/>
                </a:lnTo>
                <a:lnTo>
                  <a:pt x="2616199" y="152400"/>
                </a:lnTo>
                <a:lnTo>
                  <a:pt x="2524756" y="152400"/>
                </a:lnTo>
                <a:lnTo>
                  <a:pt x="2672078" y="0"/>
                </a:lnTo>
                <a:lnTo>
                  <a:pt x="2819400" y="152400"/>
                </a:lnTo>
                <a:lnTo>
                  <a:pt x="2727957" y="152400"/>
                </a:lnTo>
                <a:lnTo>
                  <a:pt x="2727957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7960" y="828720"/>
            <a:ext cx="8686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Phenotype can depend on interactions of allele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05080"/>
            <a:ext cx="8076960" cy="24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complete dominance, neither allele is completely dominant nor completely reces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zygous phenotype is intermediate between the two homozygous phen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zygous parental phenotypes not seen in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f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304920" y="4191120"/>
            <a:ext cx="8504280" cy="2166840"/>
            <a:chOff x="304920" y="4191120"/>
            <a:chExt cx="8504280" cy="2166840"/>
          </a:xfrm>
        </p:grpSpPr>
        <p:pic>
          <p:nvPicPr>
            <p:cNvPr id="123" name="Picture 6" descr="bhspe-030702-001"/>
            <p:cNvPicPr/>
            <p:nvPr/>
          </p:nvPicPr>
          <p:blipFill>
            <a:blip r:embed="rId2"/>
            <a:stretch/>
          </p:blipFill>
          <p:spPr>
            <a:xfrm>
              <a:off x="304920" y="4191120"/>
              <a:ext cx="2438280" cy="2144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Group 9"/>
            <p:cNvGrpSpPr/>
            <p:nvPr/>
          </p:nvGrpSpPr>
          <p:grpSpPr>
            <a:xfrm>
              <a:off x="3124080" y="4205160"/>
              <a:ext cx="5685120" cy="2152800"/>
              <a:chOff x="3124080" y="4205160"/>
              <a:chExt cx="5685120" cy="2152800"/>
            </a:xfrm>
          </p:grpSpPr>
          <p:pic>
            <p:nvPicPr>
              <p:cNvPr id="125" name="Picture 5" descr="bhspe-030702-003"/>
              <p:cNvPicPr/>
              <p:nvPr/>
            </p:nvPicPr>
            <p:blipFill>
              <a:blip r:embed="rId3"/>
              <a:stretch/>
            </p:blipFill>
            <p:spPr>
              <a:xfrm>
                <a:off x="6095880" y="4205160"/>
                <a:ext cx="2713320" cy="213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7" descr="bhspe-030702-002"/>
              <p:cNvPicPr/>
              <p:nvPr/>
            </p:nvPicPr>
            <p:blipFill>
              <a:blip r:embed="rId4"/>
              <a:stretch/>
            </p:blipFill>
            <p:spPr>
              <a:xfrm>
                <a:off x="3124080" y="4224240"/>
                <a:ext cx="2713320" cy="2133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04920" y="1523880"/>
            <a:ext cx="4572000" cy="46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ats black and white fur exhibits incomplete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zygous black =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zygous white = w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zygous grey = b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ack female is crossed with a white m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029200" y="1676520"/>
          <a:ext cx="3429000" cy="26668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</a:tblGrid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9" name="Content Placeholder 2"/>
          <p:cNvSpPr/>
          <p:nvPr/>
        </p:nvSpPr>
        <p:spPr>
          <a:xfrm>
            <a:off x="5638680" y="4648320"/>
            <a:ext cx="2514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sp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= b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=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Gretchen Schultz</cp:lastModifiedBy>
  <dcterms:modified xsi:type="dcterms:W3CDTF">2012-01-24T22:48:47Z</dcterms:modified>
  <cp:revision>236</cp:revision>
  <dc:subject/>
  <dc:title>PowerPoint Presentation</dc:title>
</cp:coreProperties>
</file>