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1.png" ContentType="image/png"/>
  <Override PartName="/ppt/media/Cow.wav" ContentType="audio/x-wav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3169-09C5-46D1-8C2E-AE3D96FEB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7642-1B4D-4729-8E1A-4994E3CAE589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5B3A-8F0B-4EB9-8008-EEA8C309C5D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BC2E-F104-47EF-8374-CD12CD98B8B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EDB4-8574-433B-96AB-C1C9A5D1267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FE9B-B72B-4C83-BE65-06797C9351B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3412-8B90-4A72-8768-372199C74AE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35FA-353D-4015-93A0-3D63356E14E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CFC6-9A35-446C-881A-760C317E583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A41A-8956-4DF9-ABB4-32739E0A94EC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54D1-43D2-462F-B804-00F456AC9A2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434A-031D-461A-A338-11C12B4B92A0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4FE6-C1E5-467A-A3B3-DBD624FA1DA3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39F8-A798-447B-A4A1-7BD49F738107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= all the glycosidic linkage are on same side = molecule lies f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ose = cross linking between OH (H bonds)  = rigid structure &amp; hard to di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gestion of cellulose governs the life strategy of herbiv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you do it really well and you’re a cow or an elephant (spend a long time digesting a lot of food with a little help from some microbes &amp; have to walk around slowly for a long time carrying a lot of food in your stom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do it inefficiently and have to supplement your diet with simple sugars, like fruit and nectar, and you’re a goril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5EC0-45B3-4104-89EA-5E05B439C9F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D461-0E35-43CA-BE9A-7BB2CA5FEB11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49165-A288-4D6E-8933-D69F65861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A62F-87B3-42B1-B72B-AC8E744EA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7F17-1321-4740-9260-84E92C105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3ADC3-72EB-4BA5-80C0-CE85CB520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B9F5-7471-4BA7-A878-209E4DE39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6AF55-467E-4E85-9ED3-57B738808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2BA3-6C25-4ECF-B857-44FC6BFDAC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1FD5-03E4-4B38-96A1-334BCB5CE5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4FE71-7A60-482E-A8DF-C0517A746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5E61-04BF-4295-BAEB-B46B754D1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AC98-271F-40B5-A99D-CD0568224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1CC2-8081-4511-A832-192727B5A0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B80A-D230-4E06-944F-B918E88C55D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97000" y="713880"/>
            <a:ext cx="82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imal Nutrition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Variations, Adaptations &amp; Regulation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2" name="Picture 7" descr="41-02-ObeseMouse"/>
          <p:cNvPicPr/>
          <p:nvPr/>
        </p:nvPicPr>
        <p:blipFill>
          <a:blip r:embed="rId1"/>
          <a:stretch/>
        </p:blipFill>
        <p:spPr>
          <a:xfrm>
            <a:off x="4444920" y="1959120"/>
            <a:ext cx="4400640" cy="267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3" name="Text Box 8"/>
          <p:cNvSpPr/>
          <p:nvPr/>
        </p:nvSpPr>
        <p:spPr>
          <a:xfrm>
            <a:off x="3610080" y="4751280"/>
            <a:ext cx="5533920" cy="916920"/>
          </a:xfrm>
          <a:prstGeom prst="rect">
            <a:avLst/>
          </a:prstGeom>
          <a:solidFill>
            <a:srgbClr val="ace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This obese mouse (L) has defect in gene which normally produces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epti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, an appetite-regulating protein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2"/>
          <a:srcRect l="0" t="2904" r="0" b="0"/>
          <a:stretch/>
        </p:blipFill>
        <p:spPr>
          <a:xfrm>
            <a:off x="241200" y="1941480"/>
            <a:ext cx="3040200" cy="43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05" name="Rectangle 10"/>
          <p:cNvSpPr/>
          <p:nvPr/>
        </p:nvSpPr>
        <p:spPr>
          <a:xfrm>
            <a:off x="2035080" y="6066000"/>
            <a:ext cx="5668920" cy="58068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Many herbivores have diets deficient in mineral salts. Must find other sources = salt licks, chewing on bon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eth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5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arnivo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harp ripping tee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ines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5b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erbivo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ide grinding tee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la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mnivo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th kinds of tee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0" r="0" b="4661"/>
          <a:stretch/>
        </p:blipFill>
        <p:spPr>
          <a:xfrm>
            <a:off x="4572000" y="1295280"/>
            <a:ext cx="4422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ength of digestive syste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3120" y="1371600"/>
            <a:ext cx="3527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nivor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hort digestive syste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rotein easier to digest than cellulose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erbivores &amp; omnivor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ong digestive syste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time to  digest cellulos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ymbiotic bacteria in gu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4114800" y="1447920"/>
            <a:ext cx="4952880" cy="52578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6"/>
          <p:cNvSpPr/>
          <p:nvPr/>
        </p:nvSpPr>
        <p:spPr>
          <a:xfrm flipH="1">
            <a:off x="7321680" y="0"/>
            <a:ext cx="1822320" cy="1120680"/>
          </a:xfrm>
          <a:prstGeom prst="wedgeEllipseCallout">
            <a:avLst>
              <a:gd name="adj1" fmla="val -7060"/>
              <a:gd name="adj2" fmla="val 10977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Remember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e rabbits,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Georg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ymbiotic organis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rcRect l="4545" t="0" r="0" b="11077"/>
          <a:stretch/>
        </p:blipFill>
        <p:spPr>
          <a:xfrm>
            <a:off x="3048120" y="2995560"/>
            <a:ext cx="6095880" cy="3799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271440" y="3259080"/>
            <a:ext cx="2432160" cy="30502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uminant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dditional mechanical digestion by chewing food multiple times after mixing it with enzym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3360" y="1371240"/>
            <a:ext cx="8448840" cy="17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ow can cows digest cellulose efficiently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ymbiotic bacteria in stomachs help digest cellulose-rich mea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abbit vs. cow adaptation: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at feces vs. chew cud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7234200" y="2359800"/>
            <a:ext cx="1452600" cy="371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mic Sans MS"/>
              </a:rPr>
              <a:t>ruminant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5229360" y="2374200"/>
            <a:ext cx="1603440" cy="371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mic Sans MS"/>
              </a:rPr>
              <a:t>caprohagy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6289560" y="2809800"/>
            <a:ext cx="1465200" cy="1069560"/>
            <a:chOff x="6289560" y="2809800"/>
            <a:chExt cx="1465200" cy="1069560"/>
          </a:xfrm>
        </p:grpSpPr>
        <p:grpSp>
          <p:nvGrpSpPr>
            <p:cNvPr id="183" name="Group 3"/>
            <p:cNvGrpSpPr/>
            <p:nvPr/>
          </p:nvGrpSpPr>
          <p:grpSpPr>
            <a:xfrm>
              <a:off x="6289560" y="2809800"/>
              <a:ext cx="1465200" cy="1005120"/>
              <a:chOff x="6289560" y="2809800"/>
              <a:chExt cx="1465200" cy="1005120"/>
            </a:xfrm>
          </p:grpSpPr>
          <p:pic>
            <p:nvPicPr>
              <p:cNvPr id="184" name="Picture 4" descr=""/>
              <p:cNvPicPr/>
              <p:nvPr/>
            </p:nvPicPr>
            <p:blipFill>
              <a:blip r:embed="rId1"/>
              <a:srcRect l="58507" t="64504" r="15750" b="13504"/>
              <a:stretch/>
            </p:blipFill>
            <p:spPr>
              <a:xfrm>
                <a:off x="6289560" y="2874960"/>
                <a:ext cx="1465200" cy="93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5"/>
              <p:cNvSpPr/>
              <p:nvPr/>
            </p:nvSpPr>
            <p:spPr>
              <a:xfrm>
                <a:off x="6508440" y="2809800"/>
                <a:ext cx="95400" cy="119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86" name="Rectangle 6"/>
            <p:cNvSpPr/>
            <p:nvPr/>
          </p:nvSpPr>
          <p:spPr>
            <a:xfrm>
              <a:off x="6670800" y="3450240"/>
              <a:ext cx="75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1374840" y="1906560"/>
            <a:ext cx="1989000" cy="877320"/>
            <a:chOff x="1374840" y="1906560"/>
            <a:chExt cx="1989000" cy="877320"/>
          </a:xfrm>
        </p:grpSpPr>
        <p:grpSp>
          <p:nvGrpSpPr>
            <p:cNvPr id="188" name="Group 8"/>
            <p:cNvGrpSpPr/>
            <p:nvPr/>
          </p:nvGrpSpPr>
          <p:grpSpPr>
            <a:xfrm>
              <a:off x="2027160" y="1906560"/>
              <a:ext cx="1336680" cy="712800"/>
              <a:chOff x="2027160" y="1906560"/>
              <a:chExt cx="1336680" cy="712800"/>
            </a:xfrm>
          </p:grpSpPr>
          <p:pic>
            <p:nvPicPr>
              <p:cNvPr id="189" name="Picture 9" descr=""/>
              <p:cNvPicPr/>
              <p:nvPr/>
            </p:nvPicPr>
            <p:blipFill>
              <a:blip r:embed="rId2"/>
              <a:srcRect l="39379" t="25504" r="37129" b="60756"/>
              <a:stretch/>
            </p:blipFill>
            <p:spPr>
              <a:xfrm>
                <a:off x="2027160" y="1906560"/>
                <a:ext cx="1336680" cy="5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Rectangle 10"/>
              <p:cNvSpPr/>
              <p:nvPr/>
            </p:nvSpPr>
            <p:spPr>
              <a:xfrm>
                <a:off x="3143160" y="2373120"/>
                <a:ext cx="13500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2079720" y="2468520"/>
                <a:ext cx="13500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92" name="Rectangle 12"/>
            <p:cNvSpPr/>
            <p:nvPr/>
          </p:nvSpPr>
          <p:spPr>
            <a:xfrm>
              <a:off x="1374840" y="2354760"/>
              <a:ext cx="140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ncrea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93" name="Rectangle 13"/>
          <p:cNvSpPr/>
          <p:nvPr/>
        </p:nvSpPr>
        <p:spPr>
          <a:xfrm>
            <a:off x="198360" y="6119640"/>
            <a:ext cx="18255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94" name="Group 14"/>
          <p:cNvGrpSpPr/>
          <p:nvPr/>
        </p:nvGrpSpPr>
        <p:grpSpPr>
          <a:xfrm>
            <a:off x="1900080" y="5762520"/>
            <a:ext cx="1465200" cy="1096560"/>
            <a:chOff x="1900080" y="5762520"/>
            <a:chExt cx="1465200" cy="1096560"/>
          </a:xfrm>
        </p:grpSpPr>
        <p:grpSp>
          <p:nvGrpSpPr>
            <p:cNvPr id="195" name="Group 15"/>
            <p:cNvGrpSpPr/>
            <p:nvPr/>
          </p:nvGrpSpPr>
          <p:grpSpPr>
            <a:xfrm>
              <a:off x="1900080" y="5762520"/>
              <a:ext cx="1465200" cy="1005120"/>
              <a:chOff x="1900080" y="5762520"/>
              <a:chExt cx="1465200" cy="1005120"/>
            </a:xfrm>
          </p:grpSpPr>
          <p:pic>
            <p:nvPicPr>
              <p:cNvPr id="196" name="Picture 16" descr=""/>
              <p:cNvPicPr/>
              <p:nvPr/>
            </p:nvPicPr>
            <p:blipFill>
              <a:blip r:embed="rId3"/>
              <a:srcRect l="58507" t="64504" r="15750" b="13504"/>
              <a:stretch/>
            </p:blipFill>
            <p:spPr>
              <a:xfrm>
                <a:off x="1900080" y="5827680"/>
                <a:ext cx="1465200" cy="93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Rectangle 17"/>
              <p:cNvSpPr/>
              <p:nvPr/>
            </p:nvSpPr>
            <p:spPr>
              <a:xfrm>
                <a:off x="2118960" y="5762520"/>
                <a:ext cx="95400" cy="119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98" name="Rectangle 18"/>
            <p:cNvSpPr/>
            <p:nvPr/>
          </p:nvSpPr>
          <p:spPr>
            <a:xfrm>
              <a:off x="2297160" y="6429960"/>
              <a:ext cx="75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gulation of Blood Suga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3206880" y="1436760"/>
            <a:ext cx="2357280" cy="2357280"/>
          </a:xfrm>
          <a:custGeom>
            <a:avLst/>
            <a:gdLst>
              <a:gd name="textAreaLeft" fmla="*/ 345240 w 2357280"/>
              <a:gd name="textAreaRight" fmla="*/ 2012040 w 2357280"/>
              <a:gd name="textAreaTop" fmla="*/ 345240 h 2357280"/>
              <a:gd name="textAreaBottom" fmla="*/ 2012040 h 2357280"/>
            </a:gdLst>
            <a:ahLst/>
            <a:rect l="textAreaLeft" t="textAreaTop" r="textAreaRight" b="textAreaBottom"/>
            <a:pathLst>
              <a:path w="21600" h="21600">
                <a:moveTo>
                  <a:pt x="17584" y="15315"/>
                </a:moveTo>
                <a:cubicBezTo>
                  <a:pt x="18474" y="13978"/>
                  <a:pt x="18950" y="12406"/>
                  <a:pt x="18950" y="10800"/>
                </a:cubicBezTo>
                <a:cubicBezTo>
                  <a:pt x="18950" y="6298"/>
                  <a:pt x="15301" y="2650"/>
                  <a:pt x="10800" y="2650"/>
                </a:cubicBezTo>
                <a:cubicBezTo>
                  <a:pt x="6298" y="2650"/>
                  <a:pt x="2650" y="6298"/>
                  <a:pt x="2650" y="10800"/>
                </a:cubicBezTo>
                <a:cubicBezTo>
                  <a:pt x="2649" y="13913"/>
                  <a:pt x="4424" y="16755"/>
                  <a:pt x="7221" y="18122"/>
                </a:cubicBezTo>
                <a:lnTo>
                  <a:pt x="6058" y="20503"/>
                </a:lnTo>
                <a:cubicBezTo>
                  <a:pt x="2350" y="18691"/>
                  <a:pt x="0" y="1492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929"/>
                  <a:pt x="20970" y="15011"/>
                  <a:pt x="19790" y="16784"/>
                </a:cubicBezTo>
                <a:lnTo>
                  <a:pt x="22038" y="18280"/>
                </a:lnTo>
                <a:lnTo>
                  <a:pt x="16457" y="19400"/>
                </a:lnTo>
                <a:lnTo>
                  <a:pt x="15336" y="13819"/>
                </a:lnTo>
                <a:lnTo>
                  <a:pt x="17584" y="15315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1" name="AutoShape 21"/>
          <p:cNvSpPr/>
          <p:nvPr/>
        </p:nvSpPr>
        <p:spPr>
          <a:xfrm rot="10800000">
            <a:off x="3206880" y="4246560"/>
            <a:ext cx="2357280" cy="2357280"/>
          </a:xfrm>
          <a:custGeom>
            <a:avLst/>
            <a:gdLst>
              <a:gd name="textAreaLeft" fmla="*/ 345240 w 2357280"/>
              <a:gd name="textAreaRight" fmla="*/ 2012040 w 2357280"/>
              <a:gd name="textAreaTop" fmla="*/ 345240 h 2357280"/>
              <a:gd name="textAreaBottom" fmla="*/ 2012040 h 2357280"/>
            </a:gdLst>
            <a:ahLst/>
            <a:rect l="textAreaLeft" t="textAreaTop" r="textAreaRight" b="textAreaBottom"/>
            <a:pathLst>
              <a:path w="21600" h="21600">
                <a:moveTo>
                  <a:pt x="15969" y="17191"/>
                </a:moveTo>
                <a:cubicBezTo>
                  <a:pt x="17899" y="15631"/>
                  <a:pt x="19021" y="13281"/>
                  <a:pt x="19021" y="10800"/>
                </a:cubicBezTo>
                <a:cubicBezTo>
                  <a:pt x="19021" y="6259"/>
                  <a:pt x="15340" y="2579"/>
                  <a:pt x="10800" y="2579"/>
                </a:cubicBezTo>
                <a:cubicBezTo>
                  <a:pt x="6259" y="2579"/>
                  <a:pt x="2579" y="6259"/>
                  <a:pt x="2579" y="10800"/>
                </a:cubicBezTo>
                <a:cubicBezTo>
                  <a:pt x="2578" y="14215"/>
                  <a:pt x="4690" y="17275"/>
                  <a:pt x="7884" y="18486"/>
                </a:cubicBezTo>
                <a:lnTo>
                  <a:pt x="6969" y="20898"/>
                </a:lnTo>
                <a:cubicBezTo>
                  <a:pt x="2774" y="19306"/>
                  <a:pt x="0" y="1528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4060"/>
                  <a:pt x="20126" y="17146"/>
                  <a:pt x="17591" y="19197"/>
                </a:cubicBezTo>
                <a:lnTo>
                  <a:pt x="19289" y="21296"/>
                </a:lnTo>
                <a:lnTo>
                  <a:pt x="13679" y="20704"/>
                </a:lnTo>
                <a:lnTo>
                  <a:pt x="14271" y="15092"/>
                </a:lnTo>
                <a:lnTo>
                  <a:pt x="15969" y="17191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2927520" y="3635280"/>
            <a:ext cx="2898720" cy="61128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01"/>
                </a:solidFill>
                <a:latin typeface="Arial"/>
              </a:rPr>
              <a:t>blood glucose lev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01"/>
                </a:solidFill>
                <a:latin typeface="Arial"/>
              </a:rPr>
              <a:t>(90 mg/100 mL blood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3" name="Oval 23"/>
          <p:cNvSpPr/>
          <p:nvPr/>
        </p:nvSpPr>
        <p:spPr>
          <a:xfrm>
            <a:off x="3508200" y="1270080"/>
            <a:ext cx="1746360" cy="3650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uli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4581000" y="1842840"/>
            <a:ext cx="1593360" cy="1191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body 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cells take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up glucose 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from bloo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6229800" y="1843200"/>
            <a:ext cx="153864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liver store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glucose a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glycog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7866360" y="1843200"/>
            <a:ext cx="115776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reduce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appeti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Oval 27"/>
          <p:cNvSpPr/>
          <p:nvPr/>
        </p:nvSpPr>
        <p:spPr>
          <a:xfrm>
            <a:off x="3508200" y="6397560"/>
            <a:ext cx="1746360" cy="3650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ucag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08" name="Group 28"/>
          <p:cNvGrpSpPr/>
          <p:nvPr/>
        </p:nvGrpSpPr>
        <p:grpSpPr>
          <a:xfrm>
            <a:off x="5583240" y="5153040"/>
            <a:ext cx="1796760" cy="712800"/>
            <a:chOff x="5583240" y="5153040"/>
            <a:chExt cx="1796760" cy="712800"/>
          </a:xfrm>
        </p:grpSpPr>
        <p:grpSp>
          <p:nvGrpSpPr>
            <p:cNvPr id="209" name="Group 29"/>
            <p:cNvGrpSpPr/>
            <p:nvPr/>
          </p:nvGrpSpPr>
          <p:grpSpPr>
            <a:xfrm>
              <a:off x="5583240" y="5153040"/>
              <a:ext cx="1336680" cy="712800"/>
              <a:chOff x="5583240" y="5153040"/>
              <a:chExt cx="1336680" cy="712800"/>
            </a:xfrm>
          </p:grpSpPr>
          <p:pic>
            <p:nvPicPr>
              <p:cNvPr id="210" name="Picture 30" descr=""/>
              <p:cNvPicPr/>
              <p:nvPr/>
            </p:nvPicPr>
            <p:blipFill>
              <a:blip r:embed="rId4"/>
              <a:srcRect l="39379" t="25504" r="37129" b="60756"/>
              <a:stretch/>
            </p:blipFill>
            <p:spPr>
              <a:xfrm>
                <a:off x="5583240" y="5153040"/>
                <a:ext cx="1336680" cy="5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Rectangle 31"/>
              <p:cNvSpPr/>
              <p:nvPr/>
            </p:nvSpPr>
            <p:spPr>
              <a:xfrm>
                <a:off x="6699240" y="5619600"/>
                <a:ext cx="13500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12" name="Rectangle 32"/>
              <p:cNvSpPr/>
              <p:nvPr/>
            </p:nvSpPr>
            <p:spPr>
              <a:xfrm>
                <a:off x="5635800" y="5715000"/>
                <a:ext cx="13500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13" name="Rectangle 33"/>
            <p:cNvSpPr/>
            <p:nvPr/>
          </p:nvSpPr>
          <p:spPr>
            <a:xfrm>
              <a:off x="5972400" y="5396400"/>
              <a:ext cx="140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ncrea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14" name="Rectangle 34"/>
          <p:cNvSpPr/>
          <p:nvPr/>
        </p:nvSpPr>
        <p:spPr>
          <a:xfrm>
            <a:off x="2556720" y="4892760"/>
            <a:ext cx="120024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liver 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release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1330920" y="5167440"/>
            <a:ext cx="112860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trigger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hunge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6" name="Group 36"/>
          <p:cNvGrpSpPr/>
          <p:nvPr/>
        </p:nvGrpSpPr>
        <p:grpSpPr>
          <a:xfrm>
            <a:off x="2154240" y="3191040"/>
            <a:ext cx="1020240" cy="483840"/>
            <a:chOff x="2154240" y="3191040"/>
            <a:chExt cx="1020240" cy="483840"/>
          </a:xfrm>
        </p:grpSpPr>
        <p:sp>
          <p:nvSpPr>
            <p:cNvPr id="217" name="AutoShape 37"/>
            <p:cNvSpPr/>
            <p:nvPr/>
          </p:nvSpPr>
          <p:spPr>
            <a:xfrm>
              <a:off x="2849400" y="3191040"/>
              <a:ext cx="325080" cy="444240"/>
            </a:xfrm>
            <a:prstGeom prst="upArrow">
              <a:avLst>
                <a:gd name="adj1" fmla="val 50000"/>
                <a:gd name="adj2" fmla="val 34164"/>
              </a:avLst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Rectangle 38"/>
            <p:cNvSpPr/>
            <p:nvPr/>
          </p:nvSpPr>
          <p:spPr>
            <a:xfrm>
              <a:off x="2154240" y="32151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high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9" name="Group 39"/>
          <p:cNvGrpSpPr/>
          <p:nvPr/>
        </p:nvGrpSpPr>
        <p:grpSpPr>
          <a:xfrm>
            <a:off x="5580000" y="4175640"/>
            <a:ext cx="871920" cy="515160"/>
            <a:chOff x="5580000" y="4175640"/>
            <a:chExt cx="871920" cy="515160"/>
          </a:xfrm>
        </p:grpSpPr>
        <p:sp>
          <p:nvSpPr>
            <p:cNvPr id="220" name="AutoShape 40"/>
            <p:cNvSpPr/>
            <p:nvPr/>
          </p:nvSpPr>
          <p:spPr>
            <a:xfrm flipV="1">
              <a:off x="5580000" y="4245840"/>
              <a:ext cx="325440" cy="444600"/>
            </a:xfrm>
            <a:prstGeom prst="upArrow">
              <a:avLst>
                <a:gd name="adj1" fmla="val 50000"/>
                <a:gd name="adj2" fmla="val 34154"/>
              </a:avLst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1" name="Rectangle 41"/>
            <p:cNvSpPr/>
            <p:nvPr/>
          </p:nvSpPr>
          <p:spPr>
            <a:xfrm>
              <a:off x="5762160" y="417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low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2" name="Rectangle 43"/>
          <p:cNvSpPr/>
          <p:nvPr/>
        </p:nvSpPr>
        <p:spPr>
          <a:xfrm>
            <a:off x="0" y="198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Feedback: Maintaining Homeostasis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naging glucose leve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3720" y="1371600"/>
            <a:ext cx="829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ammals regulate use &amp; storage of glucos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suli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reduces blood glucose leve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lucose levels rise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abov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set point,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ancreas secretes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nsuli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romotes transport of glucose into cells &amp;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torage of glucose (as glycogen) in liver &amp; muscle cell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rop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blood glucose level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lucago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increases blood glucose leve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glucose levels drop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below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set point,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ancreas secretes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glucag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romotes breakdown of glycogen &amp;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lease of glucose into the bloo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raise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blood glucose level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25" name="Picture 13" descr="penguinL"/>
          <p:cNvPicPr/>
          <p:nvPr/>
        </p:nvPicPr>
        <p:blipFill>
          <a:blip r:embed="rId1"/>
          <a:stretch/>
        </p:blipFill>
        <p:spPr>
          <a:xfrm>
            <a:off x="7772400" y="54896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4"/>
          <p:cNvSpPr/>
          <p:nvPr/>
        </p:nvSpPr>
        <p:spPr>
          <a:xfrm>
            <a:off x="5338800" y="5681520"/>
            <a:ext cx="2228760" cy="1148040"/>
          </a:xfrm>
          <a:prstGeom prst="wedgeEllipseCallout">
            <a:avLst>
              <a:gd name="adj1" fmla="val 70657"/>
              <a:gd name="adj2" fmla="val -36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oa!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idn’t realiz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was so busy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"/>
          <p:cNvPicPr/>
          <p:nvPr/>
        </p:nvPicPr>
        <p:blipFill>
          <a:blip r:embed="rId1"/>
          <a:srcRect l="11250" t="0" r="11250" b="0"/>
          <a:stretch/>
        </p:blipFill>
        <p:spPr>
          <a:xfrm>
            <a:off x="2440080" y="558720"/>
            <a:ext cx="6518160" cy="63072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3592800" y="1873080"/>
            <a:ext cx="4852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729240" y="3197160"/>
            <a:ext cx="105084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3550680" y="4579920"/>
            <a:ext cx="992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uodenum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7983720" y="4348080"/>
            <a:ext cx="9028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7245360" y="2243160"/>
            <a:ext cx="8557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6402240" y="2610360"/>
            <a:ext cx="803160" cy="21492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AutoShape 21"/>
          <p:cNvSpPr/>
          <p:nvPr/>
        </p:nvSpPr>
        <p:spPr>
          <a:xfrm>
            <a:off x="6305400" y="3054240"/>
            <a:ext cx="70848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Gastri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AutoShape 23"/>
          <p:cNvSpPr/>
          <p:nvPr/>
        </p:nvSpPr>
        <p:spPr>
          <a:xfrm>
            <a:off x="7851600" y="4629240"/>
            <a:ext cx="505080" cy="3744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Acinar</a:t>
            </a:r>
            <a:br>
              <a:rPr sz="1100"/>
            </a:b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cells</a:t>
            </a:r>
            <a:endParaRPr b="0" lang="en-US" sz="11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gulation of Diges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60480" y="1449360"/>
            <a:ext cx="2830320" cy="11912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ordination of nervous system &amp; endocrine system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195600" y="4406760"/>
            <a:ext cx="36720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HCl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5189760" y="4216320"/>
            <a:ext cx="66456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Pepsi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40" name="Group 48"/>
          <p:cNvGrpSpPr/>
          <p:nvPr/>
        </p:nvGrpSpPr>
        <p:grpSpPr>
          <a:xfrm>
            <a:off x="5872320" y="3511440"/>
            <a:ext cx="1301760" cy="935280"/>
            <a:chOff x="5872320" y="3511440"/>
            <a:chExt cx="1301760" cy="935280"/>
          </a:xfrm>
        </p:grpSpPr>
        <p:sp>
          <p:nvSpPr>
            <p:cNvPr id="241" name="Freeform 36"/>
            <p:cNvSpPr/>
            <p:nvPr/>
          </p:nvSpPr>
          <p:spPr>
            <a:xfrm>
              <a:off x="5872320" y="4044960"/>
              <a:ext cx="458640" cy="272880"/>
            </a:xfrm>
            <a:custGeom>
              <a:avLst/>
              <a:gdLst/>
              <a:ahLst/>
              <a:rect l="l" t="t" r="r" b="b"/>
              <a:pathLst>
                <a:path w="524" h="570">
                  <a:moveTo>
                    <a:pt x="503" y="0"/>
                  </a:moveTo>
                  <a:cubicBezTo>
                    <a:pt x="513" y="189"/>
                    <a:pt x="524" y="379"/>
                    <a:pt x="440" y="474"/>
                  </a:cubicBezTo>
                  <a:cubicBezTo>
                    <a:pt x="356" y="569"/>
                    <a:pt x="73" y="555"/>
                    <a:pt x="0" y="57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6586560" y="3808440"/>
              <a:ext cx="587520" cy="638280"/>
            </a:xfrm>
            <a:custGeom>
              <a:avLst/>
              <a:gdLst/>
              <a:ahLst/>
              <a:rect l="l" t="t" r="r" b="b"/>
              <a:pathLst>
                <a:path w="524" h="570">
                  <a:moveTo>
                    <a:pt x="503" y="0"/>
                  </a:moveTo>
                  <a:cubicBezTo>
                    <a:pt x="513" y="189"/>
                    <a:pt x="524" y="379"/>
                    <a:pt x="440" y="474"/>
                  </a:cubicBezTo>
                  <a:cubicBezTo>
                    <a:pt x="356" y="569"/>
                    <a:pt x="73" y="555"/>
                    <a:pt x="0" y="57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6543720" y="3511440"/>
              <a:ext cx="336600" cy="3430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44" name="Group 47"/>
          <p:cNvGrpSpPr/>
          <p:nvPr/>
        </p:nvGrpSpPr>
        <p:grpSpPr>
          <a:xfrm>
            <a:off x="6616800" y="3171960"/>
            <a:ext cx="1617120" cy="1382400"/>
            <a:chOff x="6616800" y="3171960"/>
            <a:chExt cx="1617120" cy="1382400"/>
          </a:xfrm>
        </p:grpSpPr>
        <p:sp>
          <p:nvSpPr>
            <p:cNvPr id="245" name="Freeform 45"/>
            <p:cNvSpPr/>
            <p:nvPr/>
          </p:nvSpPr>
          <p:spPr>
            <a:xfrm>
              <a:off x="6616800" y="3171960"/>
              <a:ext cx="1518120" cy="1382400"/>
            </a:xfrm>
            <a:custGeom>
              <a:avLst/>
              <a:gdLst/>
              <a:ahLst/>
              <a:rect l="l" t="t" r="r" b="b"/>
              <a:pathLst>
                <a:path w="934" h="924">
                  <a:moveTo>
                    <a:pt x="0" y="924"/>
                  </a:moveTo>
                  <a:cubicBezTo>
                    <a:pt x="314" y="919"/>
                    <a:pt x="628" y="914"/>
                    <a:pt x="771" y="785"/>
                  </a:cubicBezTo>
                  <a:cubicBezTo>
                    <a:pt x="914" y="656"/>
                    <a:pt x="934" y="279"/>
                    <a:pt x="857" y="148"/>
                  </a:cubicBezTo>
                  <a:cubicBezTo>
                    <a:pt x="780" y="17"/>
                    <a:pt x="545" y="8"/>
                    <a:pt x="311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6" name="Oval 46"/>
            <p:cNvSpPr/>
            <p:nvPr/>
          </p:nvSpPr>
          <p:spPr>
            <a:xfrm>
              <a:off x="7889400" y="3663720"/>
              <a:ext cx="344520" cy="323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47" name="AutoShape 49"/>
          <p:cNvSpPr/>
          <p:nvPr/>
        </p:nvSpPr>
        <p:spPr>
          <a:xfrm>
            <a:off x="2828880" y="5181480"/>
            <a:ext cx="45108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CCK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48" name="Group 63"/>
          <p:cNvGrpSpPr/>
          <p:nvPr/>
        </p:nvGrpSpPr>
        <p:grpSpPr>
          <a:xfrm>
            <a:off x="3681360" y="4761000"/>
            <a:ext cx="2273400" cy="1895400"/>
            <a:chOff x="3681360" y="4761000"/>
            <a:chExt cx="2273400" cy="1895400"/>
          </a:xfrm>
        </p:grpSpPr>
        <p:sp>
          <p:nvSpPr>
            <p:cNvPr id="249" name="Freeform 57"/>
            <p:cNvSpPr/>
            <p:nvPr/>
          </p:nvSpPr>
          <p:spPr>
            <a:xfrm>
              <a:off x="3681360" y="4761000"/>
              <a:ext cx="2273400" cy="1895400"/>
            </a:xfrm>
            <a:custGeom>
              <a:avLst/>
              <a:gdLst/>
              <a:ahLst/>
              <a:rect l="l" t="t" r="r" b="b"/>
              <a:pathLst>
                <a:path w="1432" h="1314">
                  <a:moveTo>
                    <a:pt x="0" y="1044"/>
                  </a:moveTo>
                  <a:cubicBezTo>
                    <a:pt x="314" y="1179"/>
                    <a:pt x="628" y="1314"/>
                    <a:pt x="867" y="1140"/>
                  </a:cubicBezTo>
                  <a:cubicBezTo>
                    <a:pt x="1106" y="966"/>
                    <a:pt x="1269" y="483"/>
                    <a:pt x="1432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0" name="Oval 62"/>
            <p:cNvSpPr/>
            <p:nvPr/>
          </p:nvSpPr>
          <p:spPr>
            <a:xfrm>
              <a:off x="4821120" y="6276960"/>
              <a:ext cx="336600" cy="343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51" name="AutoShape 50"/>
          <p:cNvSpPr/>
          <p:nvPr/>
        </p:nvSpPr>
        <p:spPr>
          <a:xfrm>
            <a:off x="3162240" y="6202440"/>
            <a:ext cx="79416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Secreti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AutoShape 19"/>
          <p:cNvSpPr/>
          <p:nvPr/>
        </p:nvSpPr>
        <p:spPr>
          <a:xfrm>
            <a:off x="6058080" y="3743280"/>
            <a:ext cx="446040" cy="37476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Chief</a:t>
            </a:r>
            <a:br>
              <a:rPr sz="1100"/>
            </a:b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cells</a:t>
            </a:r>
            <a:endParaRPr b="0" lang="en-US" sz="11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AutoShape 20"/>
          <p:cNvSpPr/>
          <p:nvPr/>
        </p:nvSpPr>
        <p:spPr>
          <a:xfrm>
            <a:off x="6891480" y="3503520"/>
            <a:ext cx="558720" cy="37476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Parietal</a:t>
            </a:r>
            <a:br>
              <a:rPr sz="1100"/>
            </a:b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cells</a:t>
            </a:r>
            <a:endParaRPr b="0" lang="en-US" sz="11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4" name="Group 67"/>
          <p:cNvGrpSpPr/>
          <p:nvPr/>
        </p:nvGrpSpPr>
        <p:grpSpPr>
          <a:xfrm>
            <a:off x="3363840" y="4890960"/>
            <a:ext cx="1195560" cy="462240"/>
            <a:chOff x="3363840" y="4890960"/>
            <a:chExt cx="1195560" cy="462240"/>
          </a:xfrm>
        </p:grpSpPr>
        <p:sp>
          <p:nvSpPr>
            <p:cNvPr id="255" name="Freeform 39"/>
            <p:cNvSpPr/>
            <p:nvPr/>
          </p:nvSpPr>
          <p:spPr>
            <a:xfrm>
              <a:off x="3363840" y="4890960"/>
              <a:ext cx="1195560" cy="446040"/>
            </a:xfrm>
            <a:custGeom>
              <a:avLst/>
              <a:gdLst/>
              <a:ahLst/>
              <a:rect l="l" t="t" r="r" b="b"/>
              <a:pathLst>
                <a:path w="599" h="188">
                  <a:moveTo>
                    <a:pt x="599" y="0"/>
                  </a:moveTo>
                  <a:cubicBezTo>
                    <a:pt x="479" y="65"/>
                    <a:pt x="359" y="130"/>
                    <a:pt x="259" y="159"/>
                  </a:cubicBezTo>
                  <a:cubicBezTo>
                    <a:pt x="159" y="188"/>
                    <a:pt x="42" y="171"/>
                    <a:pt x="0" y="173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6" name="Oval 65"/>
            <p:cNvSpPr/>
            <p:nvPr/>
          </p:nvSpPr>
          <p:spPr>
            <a:xfrm>
              <a:off x="3798720" y="5010120"/>
              <a:ext cx="336600" cy="3430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7" name="Group 73"/>
          <p:cNvGrpSpPr/>
          <p:nvPr/>
        </p:nvGrpSpPr>
        <p:grpSpPr>
          <a:xfrm>
            <a:off x="3883680" y="5341680"/>
            <a:ext cx="1425600" cy="904680"/>
            <a:chOff x="3883680" y="5341680"/>
            <a:chExt cx="1425600" cy="904680"/>
          </a:xfrm>
        </p:grpSpPr>
        <p:sp>
          <p:nvSpPr>
            <p:cNvPr id="258" name="Freeform 41"/>
            <p:cNvSpPr/>
            <p:nvPr/>
          </p:nvSpPr>
          <p:spPr>
            <a:xfrm rot="20112000">
              <a:off x="3890880" y="5621760"/>
              <a:ext cx="1411200" cy="344520"/>
            </a:xfrm>
            <a:custGeom>
              <a:avLst/>
              <a:gdLst/>
              <a:ahLst/>
              <a:rect l="l" t="t" r="r" b="b"/>
              <a:pathLst>
                <a:path w="599" h="188">
                  <a:moveTo>
                    <a:pt x="599" y="0"/>
                  </a:moveTo>
                  <a:cubicBezTo>
                    <a:pt x="479" y="65"/>
                    <a:pt x="359" y="130"/>
                    <a:pt x="259" y="159"/>
                  </a:cubicBezTo>
                  <a:cubicBezTo>
                    <a:pt x="159" y="188"/>
                    <a:pt x="42" y="171"/>
                    <a:pt x="0" y="173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9" name="Oval 66"/>
            <p:cNvSpPr/>
            <p:nvPr/>
          </p:nvSpPr>
          <p:spPr>
            <a:xfrm rot="645000">
              <a:off x="4456800" y="5664240"/>
              <a:ext cx="336600" cy="34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0" name="Group 74"/>
          <p:cNvGrpSpPr/>
          <p:nvPr/>
        </p:nvGrpSpPr>
        <p:grpSpPr>
          <a:xfrm>
            <a:off x="4672080" y="3962520"/>
            <a:ext cx="682560" cy="790560"/>
            <a:chOff x="4672080" y="3962520"/>
            <a:chExt cx="682560" cy="790560"/>
          </a:xfrm>
        </p:grpSpPr>
        <p:sp>
          <p:nvSpPr>
            <p:cNvPr id="261" name="Freeform 71"/>
            <p:cNvSpPr/>
            <p:nvPr/>
          </p:nvSpPr>
          <p:spPr>
            <a:xfrm>
              <a:off x="4672080" y="3962520"/>
              <a:ext cx="682560" cy="790560"/>
            </a:xfrm>
            <a:custGeom>
              <a:avLst/>
              <a:gdLst/>
              <a:ahLst/>
              <a:rect l="l" t="t" r="r" b="b"/>
              <a:pathLst>
                <a:path w="430" h="498">
                  <a:moveTo>
                    <a:pt x="41" y="498"/>
                  </a:moveTo>
                  <a:cubicBezTo>
                    <a:pt x="20" y="396"/>
                    <a:pt x="0" y="294"/>
                    <a:pt x="65" y="211"/>
                  </a:cubicBezTo>
                  <a:cubicBezTo>
                    <a:pt x="130" y="128"/>
                    <a:pt x="280" y="64"/>
                    <a:pt x="43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2" name="Oval 72"/>
            <p:cNvSpPr/>
            <p:nvPr/>
          </p:nvSpPr>
          <p:spPr>
            <a:xfrm>
              <a:off x="4680000" y="4091040"/>
              <a:ext cx="336600" cy="34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3" name="Group 76"/>
          <p:cNvGrpSpPr/>
          <p:nvPr/>
        </p:nvGrpSpPr>
        <p:grpSpPr>
          <a:xfrm>
            <a:off x="5543640" y="2976480"/>
            <a:ext cx="738000" cy="384120"/>
            <a:chOff x="5543640" y="2976480"/>
            <a:chExt cx="738000" cy="384120"/>
          </a:xfrm>
        </p:grpSpPr>
        <p:sp>
          <p:nvSpPr>
            <p:cNvPr id="264" name="Freeform 75"/>
            <p:cNvSpPr/>
            <p:nvPr/>
          </p:nvSpPr>
          <p:spPr>
            <a:xfrm>
              <a:off x="5543640" y="3083040"/>
              <a:ext cx="738000" cy="277560"/>
            </a:xfrm>
            <a:custGeom>
              <a:avLst/>
              <a:gdLst/>
              <a:ahLst/>
              <a:rect l="l" t="t" r="r" b="b"/>
              <a:pathLst>
                <a:path w="465" h="175">
                  <a:moveTo>
                    <a:pt x="0" y="175"/>
                  </a:moveTo>
                  <a:cubicBezTo>
                    <a:pt x="57" y="109"/>
                    <a:pt x="115" y="44"/>
                    <a:pt x="192" y="22"/>
                  </a:cubicBezTo>
                  <a:cubicBezTo>
                    <a:pt x="269" y="0"/>
                    <a:pt x="367" y="20"/>
                    <a:pt x="465" y="41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5" name="Oval 27"/>
            <p:cNvSpPr/>
            <p:nvPr/>
          </p:nvSpPr>
          <p:spPr>
            <a:xfrm>
              <a:off x="5718240" y="2976480"/>
              <a:ext cx="336600" cy="343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66" name="AutoShape 77"/>
          <p:cNvSpPr/>
          <p:nvPr/>
        </p:nvSpPr>
        <p:spPr>
          <a:xfrm>
            <a:off x="5170320" y="3338640"/>
            <a:ext cx="822600" cy="5587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0000"/>
                </a:solidFill>
                <a:latin typeface="Arial"/>
              </a:rPr>
              <a:t>Gastric</a:t>
            </a:r>
            <a:br>
              <a:rPr sz="1300"/>
            </a:br>
            <a:r>
              <a:rPr b="1" lang="en-US" sz="1300" spc="-1" strike="noStrike">
                <a:solidFill>
                  <a:srgbClr val="cc0000"/>
                </a:solidFill>
                <a:latin typeface="Arial"/>
              </a:rPr>
              <a:t>inhibitory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0000"/>
                </a:solidFill>
                <a:latin typeface="Arial"/>
              </a:rPr>
              <a:t>peptide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7" name="Group 79"/>
          <p:cNvGrpSpPr/>
          <p:nvPr/>
        </p:nvGrpSpPr>
        <p:grpSpPr>
          <a:xfrm>
            <a:off x="2847960" y="3270240"/>
            <a:ext cx="689040" cy="1908360"/>
            <a:chOff x="2847960" y="3270240"/>
            <a:chExt cx="689040" cy="1908360"/>
          </a:xfrm>
        </p:grpSpPr>
        <p:sp>
          <p:nvSpPr>
            <p:cNvPr id="268" name="Freeform 78"/>
            <p:cNvSpPr/>
            <p:nvPr/>
          </p:nvSpPr>
          <p:spPr>
            <a:xfrm>
              <a:off x="2978280" y="3270240"/>
              <a:ext cx="558720" cy="1908360"/>
            </a:xfrm>
            <a:custGeom>
              <a:avLst/>
              <a:gdLst/>
              <a:ahLst/>
              <a:rect l="l" t="t" r="r" b="b"/>
              <a:pathLst>
                <a:path w="352" h="1202">
                  <a:moveTo>
                    <a:pt x="50" y="1202"/>
                  </a:moveTo>
                  <a:cubicBezTo>
                    <a:pt x="25" y="797"/>
                    <a:pt x="0" y="392"/>
                    <a:pt x="50" y="196"/>
                  </a:cubicBezTo>
                  <a:cubicBezTo>
                    <a:pt x="100" y="0"/>
                    <a:pt x="226" y="12"/>
                    <a:pt x="352" y="2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2847960" y="3854520"/>
              <a:ext cx="336600" cy="34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0" name="Group 84"/>
          <p:cNvGrpSpPr/>
          <p:nvPr/>
        </p:nvGrpSpPr>
        <p:grpSpPr>
          <a:xfrm>
            <a:off x="3079800" y="5057640"/>
            <a:ext cx="5186160" cy="1719360"/>
            <a:chOff x="3079800" y="5057640"/>
            <a:chExt cx="5186160" cy="1719360"/>
          </a:xfrm>
        </p:grpSpPr>
        <p:sp>
          <p:nvSpPr>
            <p:cNvPr id="271" name="Freeform 81"/>
            <p:cNvSpPr/>
            <p:nvPr/>
          </p:nvSpPr>
          <p:spPr>
            <a:xfrm>
              <a:off x="3079800" y="5057640"/>
              <a:ext cx="5133960" cy="1719360"/>
            </a:xfrm>
            <a:custGeom>
              <a:avLst/>
              <a:gdLst/>
              <a:ahLst/>
              <a:rect l="l" t="t" r="r" b="b"/>
              <a:pathLst>
                <a:path w="3234" h="1083">
                  <a:moveTo>
                    <a:pt x="0" y="244"/>
                  </a:moveTo>
                  <a:lnTo>
                    <a:pt x="0" y="1083"/>
                  </a:lnTo>
                  <a:lnTo>
                    <a:pt x="3234" y="1083"/>
                  </a:lnTo>
                  <a:lnTo>
                    <a:pt x="3234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2" name="Freeform 82"/>
            <p:cNvSpPr/>
            <p:nvPr/>
          </p:nvSpPr>
          <p:spPr>
            <a:xfrm>
              <a:off x="3559320" y="5065560"/>
              <a:ext cx="4441680" cy="1581480"/>
            </a:xfrm>
            <a:custGeom>
              <a:avLst/>
              <a:gdLst/>
              <a:ahLst/>
              <a:rect l="l" t="t" r="r" b="b"/>
              <a:pathLst>
                <a:path w="2798" h="996">
                  <a:moveTo>
                    <a:pt x="0" y="862"/>
                  </a:moveTo>
                  <a:lnTo>
                    <a:pt x="77" y="977"/>
                  </a:lnTo>
                  <a:lnTo>
                    <a:pt x="714" y="996"/>
                  </a:lnTo>
                  <a:cubicBezTo>
                    <a:pt x="1408" y="988"/>
                    <a:pt x="2103" y="980"/>
                    <a:pt x="2798" y="972"/>
                  </a:cubicBezTo>
                  <a:lnTo>
                    <a:pt x="2798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3" name="Oval 25"/>
            <p:cNvSpPr/>
            <p:nvPr/>
          </p:nvSpPr>
          <p:spPr>
            <a:xfrm>
              <a:off x="7929720" y="5338800"/>
              <a:ext cx="336240" cy="34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4" name="AutoShape 85"/>
          <p:cNvSpPr/>
          <p:nvPr/>
        </p:nvSpPr>
        <p:spPr>
          <a:xfrm>
            <a:off x="4635720" y="4823280"/>
            <a:ext cx="432720" cy="21492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t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5" name="Group 92"/>
          <p:cNvGrpSpPr/>
          <p:nvPr/>
        </p:nvGrpSpPr>
        <p:grpSpPr>
          <a:xfrm>
            <a:off x="3193920" y="4898880"/>
            <a:ext cx="2298960" cy="870120"/>
            <a:chOff x="3193920" y="4898880"/>
            <a:chExt cx="2298960" cy="870120"/>
          </a:xfrm>
        </p:grpSpPr>
        <p:sp>
          <p:nvSpPr>
            <p:cNvPr id="276" name="Freeform 58"/>
            <p:cNvSpPr/>
            <p:nvPr/>
          </p:nvSpPr>
          <p:spPr>
            <a:xfrm>
              <a:off x="3193920" y="4898880"/>
              <a:ext cx="2298960" cy="870120"/>
            </a:xfrm>
            <a:custGeom>
              <a:avLst/>
              <a:gdLst/>
              <a:ahLst/>
              <a:rect l="l" t="t" r="r" b="b"/>
              <a:pathLst>
                <a:path w="1217" h="753">
                  <a:moveTo>
                    <a:pt x="0" y="523"/>
                  </a:moveTo>
                  <a:cubicBezTo>
                    <a:pt x="154" y="638"/>
                    <a:pt x="309" y="753"/>
                    <a:pt x="512" y="666"/>
                  </a:cubicBezTo>
                  <a:cubicBezTo>
                    <a:pt x="715" y="579"/>
                    <a:pt x="966" y="289"/>
                    <a:pt x="12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7" name="Oval 91"/>
            <p:cNvSpPr/>
            <p:nvPr/>
          </p:nvSpPr>
          <p:spPr>
            <a:xfrm>
              <a:off x="4653000" y="5181480"/>
              <a:ext cx="336600" cy="343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8" name="AutoShape 93"/>
          <p:cNvSpPr/>
          <p:nvPr/>
        </p:nvSpPr>
        <p:spPr>
          <a:xfrm>
            <a:off x="4670280" y="3576600"/>
            <a:ext cx="39024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Bile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AutoShape 94"/>
          <p:cNvSpPr/>
          <p:nvPr/>
        </p:nvSpPr>
        <p:spPr>
          <a:xfrm>
            <a:off x="6824520" y="4886280"/>
            <a:ext cx="86724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Enzyme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AutoShape 95"/>
          <p:cNvSpPr/>
          <p:nvPr/>
        </p:nvSpPr>
        <p:spPr>
          <a:xfrm>
            <a:off x="6618240" y="5203800"/>
            <a:ext cx="114300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Bicarbonate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1"/>
          <a:stretch/>
        </p:blipFill>
        <p:spPr>
          <a:xfrm>
            <a:off x="4697280" y="3726000"/>
            <a:ext cx="4303800" cy="307656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>
            <a:off x="291960" y="471600"/>
            <a:ext cx="6551640" cy="2911320"/>
          </a:xfrm>
          <a:prstGeom prst="wedgeEllipseCallout">
            <a:avLst>
              <a:gd name="adj1" fmla="val 45129"/>
              <a:gd name="adj2" fmla="val 111722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Don’t be shy…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Ask Questions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!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budge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Oval 3"/>
          <p:cNvSpPr/>
          <p:nvPr/>
        </p:nvSpPr>
        <p:spPr>
          <a:xfrm>
            <a:off x="685800" y="1676520"/>
            <a:ext cx="1600200" cy="1600200"/>
          </a:xfrm>
          <a:prstGeom prst="ellipse">
            <a:avLst/>
          </a:prstGeom>
          <a:solidFill>
            <a:srgbClr val="ffea18"/>
          </a:solidFill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food 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intake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2362320" y="217188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527160" y="1505520"/>
            <a:ext cx="257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sal (resting)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tabolism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emperatur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gulation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6527880" y="3630240"/>
            <a:ext cx="22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pai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3233160" y="1294200"/>
            <a:ext cx="3459240" cy="2059920"/>
            <a:chOff x="3233160" y="1294200"/>
            <a:chExt cx="3459240" cy="2059920"/>
          </a:xfrm>
        </p:grpSpPr>
        <p:sp>
          <p:nvSpPr>
            <p:cNvPr id="112" name="AutoShape 5"/>
            <p:cNvSpPr/>
            <p:nvPr/>
          </p:nvSpPr>
          <p:spPr>
            <a:xfrm>
              <a:off x="3233160" y="1819440"/>
              <a:ext cx="2418840" cy="118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ATP</a:t>
              </a:r>
              <a:br>
                <a:rPr sz="3200"/>
              </a:b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production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5964480" y="1294200"/>
              <a:ext cx="727920" cy="20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660066"/>
                  </a:solidFill>
                  <a:latin typeface="Arial"/>
                </a:rPr>
                <a:t>{</a:t>
              </a:r>
              <a:endParaRPr b="0" lang="en-US" sz="12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3387600" y="3047040"/>
            <a:ext cx="3304800" cy="2059920"/>
            <a:chOff x="3387600" y="3047040"/>
            <a:chExt cx="3304800" cy="2059920"/>
          </a:xfrm>
        </p:grpSpPr>
        <p:sp>
          <p:nvSpPr>
            <p:cNvPr id="115" name="AutoShape 6"/>
            <p:cNvSpPr/>
            <p:nvPr/>
          </p:nvSpPr>
          <p:spPr>
            <a:xfrm>
              <a:off x="3387600" y="3969720"/>
              <a:ext cx="2116440" cy="64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synthesis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5964480" y="3047040"/>
              <a:ext cx="727920" cy="20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660066"/>
                  </a:solidFill>
                  <a:latin typeface="Arial"/>
                </a:rPr>
                <a:t>{</a:t>
              </a:r>
              <a:endParaRPr b="0" lang="en-US" sz="12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17" name="AutoShape 11"/>
          <p:cNvSpPr/>
          <p:nvPr/>
        </p:nvSpPr>
        <p:spPr>
          <a:xfrm rot="5400000">
            <a:off x="4100040" y="323208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 rot="5400000">
            <a:off x="4106520" y="49291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6528600" y="5605560"/>
            <a:ext cx="173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ycoge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a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0" name="Group 18"/>
          <p:cNvGrpSpPr/>
          <p:nvPr/>
        </p:nvGrpSpPr>
        <p:grpSpPr>
          <a:xfrm>
            <a:off x="3586680" y="4799520"/>
            <a:ext cx="3105720" cy="2059920"/>
            <a:chOff x="3586680" y="4799520"/>
            <a:chExt cx="3105720" cy="2059920"/>
          </a:xfrm>
        </p:grpSpPr>
        <p:sp>
          <p:nvSpPr>
            <p:cNvPr id="121" name="AutoShape 12"/>
            <p:cNvSpPr/>
            <p:nvPr/>
          </p:nvSpPr>
          <p:spPr>
            <a:xfrm>
              <a:off x="3586680" y="5765040"/>
              <a:ext cx="1711080" cy="64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storage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5964480" y="4799520"/>
              <a:ext cx="727920" cy="20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660066"/>
                  </a:solidFill>
                  <a:latin typeface="Arial"/>
                </a:rPr>
                <a:t>{</a:t>
              </a:r>
              <a:endParaRPr b="0" lang="en-US" sz="12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rcRect l="0" t="0" r="0" b="5200"/>
          <a:stretch/>
        </p:blipFill>
        <p:spPr>
          <a:xfrm>
            <a:off x="4641840" y="4640400"/>
            <a:ext cx="3971880" cy="2217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storag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880" y="1371600"/>
            <a:ext cx="58960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 huma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ycoge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stora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ucose polym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liver &amp; muscle cell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glycogen stores are full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caloric intake still exceeds caloric expendi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cess stored a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ynthesis pathway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m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cetyl co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6" name="Picture 5" descr="glycogen_icon"/>
          <p:cNvPicPr/>
          <p:nvPr/>
        </p:nvPicPr>
        <p:blipFill>
          <a:blip r:embed="rId2"/>
          <a:stretch/>
        </p:blipFill>
        <p:spPr>
          <a:xfrm>
            <a:off x="5943600" y="380880"/>
            <a:ext cx="3124080" cy="3124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penguinL"/>
          <p:cNvPicPr/>
          <p:nvPr/>
        </p:nvPicPr>
        <p:blipFill>
          <a:blip r:embed="rId3"/>
          <a:stretch/>
        </p:blipFill>
        <p:spPr>
          <a:xfrm>
            <a:off x="7869240" y="466740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3"/>
          <p:cNvSpPr/>
          <p:nvPr/>
        </p:nvSpPr>
        <p:spPr>
          <a:xfrm>
            <a:off x="6446880" y="3254400"/>
            <a:ext cx="1993680" cy="1241280"/>
          </a:xfrm>
          <a:prstGeom prst="wedgeEllipseCallout">
            <a:avLst>
              <a:gd name="adj1" fmla="val 35430"/>
              <a:gd name="adj2" fmla="val 777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y i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glycogen highl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ranched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lancing calorie needs with intak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n fewer calories are taken in than are expended, fuel is taken out of storage deposits &amp; oxidized (digested)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reakdown (digest) glycoge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m liver &amp; muscle cel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etabolize (digest) fa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364440" y="4486320"/>
            <a:ext cx="2539800" cy="228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263520" y="4481640"/>
            <a:ext cx="2879640" cy="2290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rcRect l="7348" t="45903" r="12247" b="9001"/>
          <a:stretch/>
        </p:blipFill>
        <p:spPr>
          <a:xfrm>
            <a:off x="3249720" y="4476600"/>
            <a:ext cx="3006720" cy="229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penguinL"/>
          <p:cNvPicPr/>
          <p:nvPr/>
        </p:nvPicPr>
        <p:blipFill>
          <a:blip r:embed="rId4"/>
          <a:stretch/>
        </p:blipFill>
        <p:spPr>
          <a:xfrm>
            <a:off x="7837560" y="31226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4"/>
          <p:cNvSpPr/>
          <p:nvPr/>
        </p:nvSpPr>
        <p:spPr>
          <a:xfrm>
            <a:off x="5902200" y="3664080"/>
            <a:ext cx="1781280" cy="685800"/>
          </a:xfrm>
          <a:prstGeom prst="wedgeEllipseCallout">
            <a:avLst>
              <a:gd name="adj1" fmla="val 76379"/>
              <a:gd name="adj2" fmla="val -8032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Just do 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rcRect l="0" t="0" r="0" b="8038"/>
          <a:stretch/>
        </p:blipFill>
        <p:spPr>
          <a:xfrm>
            <a:off x="4786200" y="3583080"/>
            <a:ext cx="4357800" cy="3274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egetarian die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5200" y="1252440"/>
            <a:ext cx="84567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eed to make sure you get enough protei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20 amino acids to make protei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116a"/>
                </a:solidFill>
                <a:latin typeface="Arial"/>
              </a:rPr>
              <a:t>humans can synthesize 12 of the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mino acids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116a"/>
                </a:solidFill>
                <a:latin typeface="Arial"/>
              </a:rPr>
              <a:t>8 have to be eaten =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900" spc="-1" strike="noStrike" u="sng">
                <a:solidFill>
                  <a:srgbClr val="cc0000"/>
                </a:solidFill>
                <a:uFillTx/>
                <a:latin typeface="Arial"/>
              </a:rPr>
              <a:t>“essential amino acids”</a:t>
            </a:r>
            <a:endParaRPr b="1" lang="en-US" sz="19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Grains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(like corn) have 6 (missing 2)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Beans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(like soybean &amp; red beans) have 6 (missing different 2)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mix beans &amp; grains</a:t>
            </a:r>
            <a:br>
              <a:rPr sz="1900"/>
            </a:br>
            <a:r>
              <a:rPr b="1" lang="en-US" sz="1900" spc="-1" strike="noStrike">
                <a:solidFill>
                  <a:srgbClr val="0f116a"/>
                </a:solidFill>
                <a:latin typeface="Arial"/>
              </a:rPr>
              <a:t>for complete group of </a:t>
            </a:r>
            <a:br>
              <a:rPr sz="1900"/>
            </a:br>
            <a:r>
              <a:rPr b="1" lang="en-US" sz="1900" spc="-1" strike="noStrike">
                <a:solidFill>
                  <a:srgbClr val="0f116a"/>
                </a:solidFill>
                <a:latin typeface="Arial"/>
              </a:rPr>
              <a:t>amino acids</a:t>
            </a:r>
            <a:endParaRPr b="1" lang="en-US" sz="19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25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116a"/>
                </a:solidFill>
                <a:latin typeface="Arial"/>
              </a:rPr>
              <a:t>rice &amp; beans</a:t>
            </a:r>
            <a:endParaRPr b="1" lang="en-US" sz="17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25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116a"/>
                </a:solidFill>
                <a:latin typeface="Arial"/>
              </a:rPr>
              <a:t>taco/tortilla &amp; beans</a:t>
            </a:r>
            <a:endParaRPr b="1" lang="en-US" sz="17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25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116a"/>
                </a:solidFill>
                <a:latin typeface="Arial"/>
              </a:rPr>
              <a:t>tofu &amp; rice</a:t>
            </a:r>
            <a:endParaRPr b="1" lang="en-US" sz="17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25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116a"/>
                </a:solidFill>
                <a:latin typeface="Arial"/>
              </a:rPr>
              <a:t>peanut butter &amp; bread</a:t>
            </a:r>
            <a:endParaRPr b="1" lang="en-US" sz="17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6264360" y="4164120"/>
            <a:ext cx="1379520" cy="2693880"/>
          </a:xfrm>
          <a:custGeom>
            <a:avLst/>
            <a:gdLst>
              <a:gd name="textAreaLeft" fmla="*/ 67320 w 1379520"/>
              <a:gd name="textAreaRight" fmla="*/ 1312200 w 1379520"/>
              <a:gd name="textAreaTop" fmla="*/ 67320 h 2693880"/>
              <a:gd name="textAreaBottom" fmla="*/ 2626560 h 2693880"/>
            </a:gdLst>
            <a:ahLst/>
            <a:rect l="textAreaLeft" t="textAreaTop" r="textAreaRight" b="textAreaBottom"/>
            <a:pathLst>
              <a:path w="21600" h="42174">
                <a:moveTo>
                  <a:pt x="3600" y="0"/>
                </a:moveTo>
                <a:arcTo wR="3600" hR="3600" stAng="16200000" swAng="-5400000"/>
                <a:lnTo>
                  <a:pt x="0" y="38574"/>
                </a:lnTo>
                <a:arcTo wR="3600" hR="3600" stAng="10800000" swAng="-5400000"/>
                <a:lnTo>
                  <a:pt x="18000" y="421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6265800" y="4160880"/>
            <a:ext cx="1379520" cy="1981080"/>
          </a:xfrm>
          <a:custGeom>
            <a:avLst/>
            <a:gdLst>
              <a:gd name="textAreaLeft" fmla="*/ 67320 w 1379520"/>
              <a:gd name="textAreaRight" fmla="*/ 1312200 w 1379520"/>
              <a:gd name="textAreaTop" fmla="*/ 67320 h 1981080"/>
              <a:gd name="textAreaBottom" fmla="*/ 1913760 h 1981080"/>
            </a:gdLst>
            <a:ahLst/>
            <a:rect l="textAreaLeft" t="textAreaTop" r="textAreaRight" b="textAreaBottom"/>
            <a:pathLst>
              <a:path w="21600" h="31017">
                <a:moveTo>
                  <a:pt x="3600" y="0"/>
                </a:moveTo>
                <a:arcTo wR="3600" hR="3600" stAng="16200000" swAng="-5400000"/>
                <a:lnTo>
                  <a:pt x="0" y="27417"/>
                </a:lnTo>
                <a:arcTo wR="3600" hR="3600" stAng="10800000" swAng="-5400000"/>
                <a:lnTo>
                  <a:pt x="18000" y="31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6265800" y="4876920"/>
            <a:ext cx="1379520" cy="1981080"/>
          </a:xfrm>
          <a:custGeom>
            <a:avLst/>
            <a:gdLst>
              <a:gd name="textAreaLeft" fmla="*/ 67320 w 1379520"/>
              <a:gd name="textAreaRight" fmla="*/ 1312200 w 1379520"/>
              <a:gd name="textAreaTop" fmla="*/ 67320 h 1981080"/>
              <a:gd name="textAreaBottom" fmla="*/ 1913760 h 1981080"/>
            </a:gdLst>
            <a:ahLst/>
            <a:rect l="textAreaLeft" t="textAreaTop" r="textAreaRight" b="textAreaBottom"/>
            <a:pathLst>
              <a:path w="21600" h="31017">
                <a:moveTo>
                  <a:pt x="3600" y="0"/>
                </a:moveTo>
                <a:arcTo wR="3600" hR="3600" stAng="16200000" swAng="-5400000"/>
                <a:lnTo>
                  <a:pt x="0" y="27417"/>
                </a:lnTo>
                <a:arcTo wR="3600" hR="3600" stAng="10800000" swAng="-5400000"/>
                <a:lnTo>
                  <a:pt x="18000" y="31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2" name="Picture 10" descr="penguinL"/>
          <p:cNvPicPr/>
          <p:nvPr/>
        </p:nvPicPr>
        <p:blipFill>
          <a:blip r:embed="rId2"/>
          <a:stretch/>
        </p:blipFill>
        <p:spPr>
          <a:xfrm flipH="1">
            <a:off x="31320" y="552276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1"/>
          <p:cNvSpPr/>
          <p:nvPr/>
        </p:nvSpPr>
        <p:spPr>
          <a:xfrm flipH="1">
            <a:off x="1889280" y="5999040"/>
            <a:ext cx="1901520" cy="687600"/>
          </a:xfrm>
          <a:prstGeom prst="wedgeEllipseCallout">
            <a:avLst>
              <a:gd name="adj1" fmla="val 99245"/>
              <a:gd name="adj2" fmla="val -6593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 no fis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ating a balanced die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happens if an animal’s diet is missing an essential nutrient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eficiency disea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curvy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vitamin C (collagen production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ricket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 vitamin D (calcium absorption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blindnes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vitamin A (retinol production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nemia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vitamin B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(energy production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kwashiorko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1425600" cy="2260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7391520" y="4648320"/>
            <a:ext cx="1317600" cy="210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5257800" y="5108400"/>
            <a:ext cx="205740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387680" y="2500200"/>
            <a:ext cx="4756320" cy="39672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gesting cellulos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1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ow well you digest cellulose governs life strategy of herbivor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8040" y="6386400"/>
            <a:ext cx="5228280" cy="36828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bond between the sugars governs digestibilit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0" y="2374560"/>
            <a:ext cx="4383000" cy="1919520"/>
            <a:chOff x="0" y="2374560"/>
            <a:chExt cx="4383000" cy="1919520"/>
          </a:xfrm>
        </p:grpSpPr>
        <p:pic>
          <p:nvPicPr>
            <p:cNvPr id="154" name="Picture 5" descr=""/>
            <p:cNvPicPr/>
            <p:nvPr/>
          </p:nvPicPr>
          <p:blipFill>
            <a:blip r:embed="rId2"/>
            <a:srcRect l="0" t="41883" r="17936" b="30003"/>
            <a:stretch/>
          </p:blipFill>
          <p:spPr>
            <a:xfrm>
              <a:off x="95400" y="2692440"/>
              <a:ext cx="428760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9"/>
            <p:cNvSpPr/>
            <p:nvPr/>
          </p:nvSpPr>
          <p:spPr>
            <a:xfrm>
              <a:off x="0" y="2374560"/>
              <a:ext cx="1174320" cy="48996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starch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-360" y="4390560"/>
            <a:ext cx="4420080" cy="1818000"/>
            <a:chOff x="-360" y="4390560"/>
            <a:chExt cx="4420080" cy="1818000"/>
          </a:xfrm>
        </p:grpSpPr>
        <p:pic>
          <p:nvPicPr>
            <p:cNvPr id="157" name="Picture 6" descr=""/>
            <p:cNvPicPr/>
            <p:nvPr/>
          </p:nvPicPr>
          <p:blipFill>
            <a:blip r:embed="rId3"/>
            <a:srcRect l="0" t="69965" r="17283" b="4441"/>
            <a:stretch/>
          </p:blipFill>
          <p:spPr>
            <a:xfrm>
              <a:off x="101520" y="4751280"/>
              <a:ext cx="43182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10"/>
            <p:cNvSpPr/>
            <p:nvPr/>
          </p:nvSpPr>
          <p:spPr>
            <a:xfrm>
              <a:off x="-360" y="4390560"/>
              <a:ext cx="1598040" cy="48996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cellulos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14920" y="448920"/>
            <a:ext cx="4255920" cy="298908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ow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453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can digest cellulose well; </a:t>
            </a:r>
            <a:br>
              <a:rPr sz="2100"/>
            </a:b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no need to eat supplemental sugars</a:t>
            </a: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Gorilla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453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can </a:t>
            </a:r>
            <a:r>
              <a:rPr b="1" lang="en-US" sz="2100" spc="-1" strike="noStrike" u="sng">
                <a:solidFill>
                  <a:srgbClr val="660066"/>
                </a:solidFill>
                <a:uFillTx/>
                <a:latin typeface="Arial"/>
              </a:rPr>
              <a:t>NOT</a:t>
            </a: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 digest cellulose well; must supplement with sugar source, like fruit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87200" y="334800"/>
            <a:ext cx="4303800" cy="3076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rcRect l="7501" t="0" r="4312" b="0"/>
          <a:stretch/>
        </p:blipFill>
        <p:spPr>
          <a:xfrm>
            <a:off x="192240" y="3186000"/>
            <a:ext cx="4300560" cy="365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3"/>
          <a:stretch/>
        </p:blipFill>
        <p:spPr>
          <a:xfrm>
            <a:off x="4734000" y="3524400"/>
            <a:ext cx="4236840" cy="3178080"/>
          </a:xfrm>
          <a:prstGeom prst="rect">
            <a:avLst/>
          </a:prstGeom>
          <a:ln w="0">
            <a:noFill/>
          </a:ln>
        </p:spPr>
      </p:pic>
      <p:sp>
        <p:nvSpPr>
          <p:cNvPr id="163" name="Line 7"/>
          <p:cNvSpPr/>
          <p:nvPr/>
        </p:nvSpPr>
        <p:spPr>
          <a:xfrm>
            <a:off x="0" y="3168720"/>
            <a:ext cx="4653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fferent diets; different bodi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2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daptations of herbivore vs. carnivo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ecialization in tee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ength of digestive syste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umber &amp; size of stomac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6" name="Picture 4" descr="41_27GITractComparison_CL"/>
          <p:cNvPicPr/>
          <p:nvPr/>
        </p:nvPicPr>
        <p:blipFill>
          <a:blip r:embed="rId1"/>
          <a:stretch/>
        </p:blipFill>
        <p:spPr>
          <a:xfrm>
            <a:off x="3062160" y="3500280"/>
            <a:ext cx="3133800" cy="3281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41_26TeethRevealDiet_L"/>
          <p:cNvPicPr/>
          <p:nvPr/>
        </p:nvPicPr>
        <p:blipFill>
          <a:blip r:embed="rId2"/>
          <a:stretch/>
        </p:blipFill>
        <p:spPr>
          <a:xfrm>
            <a:off x="820800" y="3938760"/>
            <a:ext cx="1855800" cy="279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ow"/>
          <p:cNvPicPr/>
          <p:nvPr/>
        </p:nvPicPr>
        <p:blipFill>
          <a:blip r:embed="rId3"/>
          <a:stretch/>
        </p:blipFill>
        <p:spPr>
          <a:xfrm>
            <a:off x="6716880" y="4178160"/>
            <a:ext cx="21193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7-01-19T11:43:38Z</cp:lastPrinted>
  <dcterms:modified xsi:type="dcterms:W3CDTF">2011-03-13T20:13:47Z</dcterms:modified>
  <cp:revision>43</cp:revision>
  <dc:subject/>
  <dc:title>PowerPoint Presentation</dc:title>
</cp:coreProperties>
</file>