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Pig.wav" ContentType="audio/x-wav"/>
  <Override PartName="/ppt/media/image13.wmf" ContentType="image/x-wmf"/>
  <Override PartName="/ppt/media/image29.png" ContentType="image/png"/>
  <Override PartName="/ppt/media/image14.wmf" ContentType="image/x-wmf"/>
  <Override PartName="/ppt/media/image30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match_strike.wav" ContentType="audio/x-wav"/>
  <Override PartName="/ppt/media/image15.png" ContentType="image/png"/>
  <Override PartName="/ppt/media/image18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6.wmf" ContentType="image/x-wm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57CA-E2DA-4DE6-B82B-C10BF2FE9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62DC-F1FC-4868-AE75-81FBA41C436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DE65-96DC-41D1-90A8-579C8FD3744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5418-04E2-48A3-BAA2-A0767CABE6F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5115-5059-4A77-BE86-106B1F5F5AD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EA5-BE28-457A-9BF9-27D70D4FBFA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5F23-FAF0-4559-A119-0C8DC8E7AEA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9057-7895-4E52-8034-1ED14ADDFF6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73C7-ABDB-4789-BE56-B217ABF153A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115A-319E-4F69-AE38-650F39F14FA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AC26-588D-41B6-878D-EFC22CD7436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261D-F5B8-43C0-B4D6-B14D334493F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6961-8924-4EBE-9100-613FC6705CC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0B46-8455-4713-9045-8267C422BFB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A6E-D950-43D4-A400-325484F358E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C3F1-226B-414D-BB53-6551D2F20A1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88F8-4408-44E3-959F-74117A01DB7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2347-3178-4A2A-92A0-892DAEDB60F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92BB-578B-4296-B7FA-1B462AFCE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4CD38-FE74-4552-9A25-6C7F694D5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19DA-EC9D-44E1-88EC-F981AC7C1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638D9-FCEF-4416-B23D-E6C926480F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417BA-D327-4F51-8C22-2B7E54A05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B77F-B3BA-4F24-B6BC-1F467A8409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BB3B6-F355-4BC4-B92E-21A76E767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0BC1-83E4-4A6E-9773-8DB011438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CAF9-B7DA-48E6-922D-B6D21A564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E89A-CDFF-49E2-982F-CBDE8BB0A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CB03-494D-4490-AFC1-173BB6F06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987D-E4AB-410F-A6B5-BF5798755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7A54-AA8B-4552-9779-684A24B42B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6" descr="05_02b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Picture 7" descr="doghouseBTLs-w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5" name="Picture 12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6" name="AutoShape 5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50" name="AutoShape 9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Rectangle 10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2" name="Rectangle 11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3" name="Rectangle 12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57" name="Picture 20" descr="penguinL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21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5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60" name="AutoShape 23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1" name="Rectangle 24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26" descr="match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27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4" name="AutoShape 28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5" name="Rectangle 29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Rectangle 30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67" name="Group 31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8" name="Rectangle 32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469" name="Picture 33" descr="piggybank-ecoin2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AutoShape 34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penguinL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1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6" name="Group 12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7" name="Group 13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8" name="Oval 14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79" name="Rectangle 15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0" name="Line 16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1" name="Group 17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2" name="Group 18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3" name="Oval 19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4" name="Rectangle 20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5" name="Line 21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6" name="Group 22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7" name="Group 23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8" name="Oval 24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9" name="Rectangle 25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0" name="Line 26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1" name="Group 27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2" name="Group 28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3" name="Oval 29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4" name="Rectangle 30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5" name="Line 31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7" name="Group 33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8" name="Oval 34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9" name="Rectangle 35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00" name="Line 36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01" name="Rectangle 37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2" name="AutoShape 39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4" name="Rectangle 38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AutoShape 40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12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7" name="Group 114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8" name="Picture 80" descr="09_07a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81" descr="09_07b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Group 113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11" name="Rectangle 83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2" name="Rectangle 84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3" name="Rectangle 85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4" name="Rectangle 86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5" name="Rectangle 87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6" name="Rectangle 88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7" name="Rectangle 89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8" name="Rectangle 90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9" name="Rectangle 91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0" name="Rectangle 92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2" name="Rectangle 94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3" name="Rectangle 95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4" name="Rectangle 96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5" name="Rectangle 97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6" name="Rectangle 98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7" name="Rectangle 99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8" name="Rectangle 100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9" name="Rectangle 101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0" name="Rectangle 102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1" name="Rectangle 103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2" name="Rectangle 104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3" name="Rectangle 105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4" name="Rectangle 106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5" name="Rectangle 107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6" name="Rectangle 108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7" name="Rectangle 109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8" name="Rectangle 110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9" name="Rectangle 111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17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Freeform 59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Freeform 60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46" name="Group 63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7" name="Group 61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8" name="Picture 47" descr="09_07a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9" name="Rectangle 48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Rectangle 49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1" name="Rectangle 50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2" name="Rectangle 51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3" name="Rectangle 52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Rectangle 53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Rectangle 54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6" name="Rectangle 55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7" name="Rectangle 56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Rectangle 57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Rectangle 58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60" name="Rectangle 62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1" name="AutoShape 115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Line 116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09_08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9" name="AutoShape 26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4" name="Group 28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5" name="Picture 29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Oval 30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7" name="AutoShape 31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AutoShape 32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AutoShape 34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6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Rectangle 25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6" name="Group 35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7" name="Oval 11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1" name="Rectangle 15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2" name="Group 16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3" name="Rectangle 17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4" name="AutoShape 18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5" name="AutoShape 19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6" name="Rectangle 22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8" name="Group 27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9" name="AutoShape 28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0" name="Rectangle 29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1" name="Rectangle 30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12" name="Group 31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3" name="AutoShape 32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16" name="Picture 38" descr="f9-09_how_wine_is_made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7" name="Picture 39" descr=""/>
          <p:cNvPicPr/>
          <p:nvPr/>
        </p:nvPicPr>
        <p:blipFill>
          <a:blip r:embed="rId2"/>
          <a:srcRect l="12802" t="0" r="22403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8" name="Picture 41" descr=""/>
          <p:cNvPicPr/>
          <p:nvPr/>
        </p:nvPicPr>
        <p:blipFill>
          <a:blip r:embed="rId3"/>
          <a:srcRect l="0" t="0" r="68440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3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Rectangle 44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1" name="Picture 46" descr="doghouseBTLs-w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7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3" name="Picture 28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Oval 29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25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9" name="Rectangle 6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30" name="Group 7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31" name="Oval 8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2" name="AutoShape 9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3" name="AutoShape 10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4" name="Rectangle 11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Group 12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6" name="AutoShape 13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Rectangle 14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Rectangle 15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39" name="Freeform 17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0" name="Picture 2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23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3" name="Rectangle 26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4" name="Rectangle 30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5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6" name="Picture 26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27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48" name="Rectangle 20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0" name="Picture 4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2" name="Group 16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3" name="Rectangle 6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54" name="Group 7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5" name="Rectangle 8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6" name="AutoShape 9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7" name="AutoShape 10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1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9" name="AutoShape 12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2" name="Rectangle 17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3" name="Picture 18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19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5" name="Group 21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6" name="Oval 22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7" name="Rectangle 23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8" name="Rectangle 24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3" name="Group 17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4" name="AutoShape 6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5" name="Group 7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6" name="Oval 8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7" name="Rectangle 9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Group 16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9" name="AutoShape 5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80" name="Group 10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81" name="Oval 11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2" name="Rectangle 12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3" name="Line 13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14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87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8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90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91" name="AutoShape 6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96" name="Group 35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7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Rectangle 5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9" name="Rectangle 6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0" name="Rectangle 7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1" name="Rectangle 8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2" name="Rectangle 15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3" name="Rectangle 16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4" name="Rectangle 17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5" name="Rectangle 18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6" name="Rectangle 19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7" name="Rectangle 20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8" name="Rectangle 21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9" name="Rectangle 22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0" name="Rectangle 23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AutoShape 25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AutoShape 27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16" name="Group 29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7" name="Oval 30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8" name="Rectangle 31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20" name="Picture 33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8" name="Picture 6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7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0" name="Picture 8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AutoShape 9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7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7" name="Rectangle 4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2" name="Picture 11" descr="penguinL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5" name="AutoShape 14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1" name="Picture 14" descr="penguinL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5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Picture 16" descr="penguinL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7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Group 41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7" name="AutoShape 42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9" name="Group 44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50" name="AutoShape 45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52" name="Picture 47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1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4" name="AutoShape 52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54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7" name="AutoShape 55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" name="AutoShape 56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9" name="AutoShape 57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0" name="Group 61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61" name="AutoShape 62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2" name="AutoShape 63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63" name="AutoShape 65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AutoShape 66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AutoShape 67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AutoShape 68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AutoShape 69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AutoShape 70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AutoShape 71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AutoShape 72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1" name="Group 76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2" name="AutoShape 74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75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4" name="Group 89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5" name="Freeform 90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Freeform 91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Rectangle 92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AutoShape 93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9" name="Group 94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80" name="Freeform 95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1" name="Freeform 96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2" name="Rectangle 97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" name="AutoShape 98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4" name="Group 99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5" name="Freeform 100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Freeform 101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Rectangle 102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AutoShape 103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9" name="Group 104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90" name="Freeform 105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Freeform 106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Rectangle 107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AutoShape 108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4" name="Group 109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5" name="Freeform 110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Freeform 111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Rectangle 112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AutoShape 113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9" name="Group 114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200" name="Freeform 115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1" name="Freeform 116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Rectangle 117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AutoShape 118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4" name="Group 119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5" name="Freeform 120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6" name="Freeform 121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7" name="Rectangle 122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8" name="AutoShape 123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9" name="Group 124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10" name="Freeform 125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1" name="Freeform 126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127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AutoShape 128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4" name="Group 78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5" name="AutoShape 37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38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7" name="Group 129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8" name="AutoShape 130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131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0" name="Group 134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21" name="Rectangle 23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222" name="Picture 133" descr="piggybank-ecoin2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4" name="Picture 3" descr="fire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logs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AutoShape 5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27" name="Picture 6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1" name="Picture 10" descr="21009023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4" name="Picture 23" descr="piggybank-ecoin2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24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7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8" name="Picture 4" descr="09_07a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Rectangle 33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Rectangle 34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Text Box 55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Text Box 56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Text Box 59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Text Box 61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Text Box 62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Text Box 63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Text Box 64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Text Box 65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Text Box 67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Text Box 68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Text Box 69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Text Box 70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Text Box 71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Text Box 72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Text Box 73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Text Box 74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Text Box 75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Text Box 76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Text Box 77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Text Box 78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Text Box 79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Text Box 80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Rectangle 81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Text Box 44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82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Rectangle 83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Rectangle 85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Rectangle 86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Oval 88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Oval 89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3" descr="09_07a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6" name="Picture 12" descr="penguinL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3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Picture 15" descr="09_07b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6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3" name="Rectangle 41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4" name="Rectangle 44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Text Box 45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Rectangle 46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48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Rectangle 49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Rectangle 61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Rectangle 62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Rectangle 63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Rectangle 64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Rectangle 65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66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67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Rectangle 68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Rectangle 71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Rectangle 74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Rectangle 75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Rectangle 76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Rectangle 77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AutoShape 78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AutoShape 79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Rectangle 80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Rectangle 81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Rectangle 82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Rectangle 83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AutoShape 84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Freeform 85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AutoShape 87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AutoShape 88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AutoShape 93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Freeform 92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00" name="Picture 3" descr="f9-04_substrate-level_p_c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4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2" name="Picture 5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6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7" descr="f9-04_substrate-level_p_c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8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9" name="Picture 12" descr="09_07b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3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1" name="Rectangle 14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Rectangle 16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7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9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20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21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2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3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4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2" name="Rectangle 25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Rectangle 28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Rectangle 29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32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33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Rectangle 34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2" name="Rectangle 35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Rectangle 36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Rectangle 37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Rectangle 38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Rectangle 39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Rectangle 40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9" name="AutoShape 42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AutoShape 43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AutoShape 44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AutoShape 45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04T04:15:12Z</cp:lastPrinted>
  <dcterms:modified xsi:type="dcterms:W3CDTF">2010-09-22T00:02:10Z</dcterms:modified>
  <cp:revision>105</cp:revision>
  <dc:subject/>
  <dc:title>Chapter  9.  Cellular Respiration  STAGE 1: Glycolysis</dc:title>
</cp:coreProperties>
</file>