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5.png" ContentType="image/png"/>
  <Override PartName="/ppt/media/image8.jpeg" ContentType="image/jpeg"/>
  <Override PartName="/ppt/media/Pi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6CBA-1AAE-4353-8D6C-35DD6100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CCCD-9ED0-4534-AFC3-B2611937504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317A-DF7E-412E-B2C8-A98703F2893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633A-FD76-4C58-877E-E973926AF27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A0AE-1C40-4FDF-B0FF-EAF1B88AEA8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B74-7D47-4D8A-9B4A-4679612F704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04C2-A4FA-41FB-8458-442CB4A717D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B83-6A79-4862-85F5-4CEAA6AA86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033-5819-48ED-8863-0FA4B69FB24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3DC7-2030-4C37-91B8-F02092B2796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CD28-FBC7-45A1-A760-AF15C8BBD6F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96EE-F352-4380-B00F-7D1730B3B06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F30C-F717-4F28-A0A7-C73B2084899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9A25-2808-4A79-981F-FC8644BAC83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0FF7-E49F-4F8A-894B-69C4D021A6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C16D1-F16A-4DF2-8A09-3E251C4BC86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03F0-4CA7-4B37-8D23-35D3869194E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F4F5-B4A5-4FED-9FB6-3A370B9CC7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AutoShape 14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3" name="Group 16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AutoShape 17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6" name="Picture 19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0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AutoShape 21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AutoShape 24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AutoShape 25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3" name="AutoShape 26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AutoShape 28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6" name="AutoShape 29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7" name="Group 30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Rectangle 31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29" name="Picture 32" descr="piggybankred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33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40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AutoShape 42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1" name="Group 84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AutoShape 85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86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4" name="Group 87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AutoShape 88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" name="Rectangle 89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6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8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9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1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2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5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8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0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1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4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6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7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9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00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3" name="AutoShape 32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5" name="Group 34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6" name="AutoShape 35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8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4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4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7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30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2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3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6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9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2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4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5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7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8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0" name="Group 31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1" name="AutoShape 32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3" name="Group 34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4" name="AutoShape 35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6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1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2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4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AutoShape 49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67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Group 70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70" name="AutoShape 71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2" name="Group 81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3" name="Group 50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4" name="AutoShape 51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5" name="Rectangle 52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76" name="Picture 76" descr="piggybank-ecoin2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82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8" name="Group 53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9" name="AutoShape 54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0" name="Rectangle 55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1" name="Picture 77" descr="piggybank-ecoin2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83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3" name="Group 59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4" name="AutoShape 60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61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6" name="Picture 78" descr="piggybank-ecoin2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80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8" name="Group 73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9" name="AutoShape 74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0" name="Rectangle 75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1" name="Picture 79" descr="piggybank-ecoin2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5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3" name="Group 56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4" name="AutoShape 57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Rectangle 58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6" name="Picture 84" descr="piggybankFADH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86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8" name="AutoShape 87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9" name="Rectangle 88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00" name="AutoShape 89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2" name="Rectangle 3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0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7" name="Rectangle 3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9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10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2" name="Picture 12" descr="09_03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3" name="Rectangle 13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2" name="AutoShape 25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9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8" name="AutoShape 9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1" name="AutoShape 27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2" name="Picture 32" descr="piggybank-ecoin2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0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4" name="Text Box 41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Group 42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6" name="Rectangle 43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Rectangle 44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9" name="Rectangle 46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0" name="Rectangle 47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4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2" name="AutoShape 5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AutoShape 17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7" name="Group 26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8" name="Rectangle 12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Oval 18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50" name="Picture 37" descr="piggybankFADH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5" name="Group 28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6" name="Picture 27" descr="piggybankFADH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6" descr="piggybank-ecoin2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60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3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9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5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2" name="Rectangle 17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9" name="Oval 24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Rectangle 25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2" name="Picture 27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3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8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2" name="Rectangle 11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" name="Group 17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7" name="Rectangle 2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8" name="Group 5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AutoShape 8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Rectangle 9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AutoShape 14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5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8" name="Picture 5" descr="05_21a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80" name="Picture 63" descr="05_02b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1" name="Freeform 64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3" name="Group 38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4" name="Oval 20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Oval 28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Oval 29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Oval 33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Oval 34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2" name="Group 61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3" name="Freeform 17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06" name="Picture 66" descr="05_21b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7" name="Picture 69" descr="mito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AutoShape 70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Rectangle 6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5" name="Picture 7" descr=""/>
            <p:cNvPicPr/>
            <p:nvPr/>
          </p:nvPicPr>
          <p:blipFill>
            <a:blip r:embed="rId2"/>
            <a:srcRect l="13498" t="0" r="0" b="10849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8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Rectangle 11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Picture 17" descr="penguinL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8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3" name="Rectangle 23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7" name="AutoShape 5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9" name="AutoShape 8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3" name="Text Box 13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6" name="Group 51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7" name="Oval 29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Rectangle 40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26" descr="penguinL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8" descr="piggybank-ecoin2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AutoShape 50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Freeform 55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9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48" name="Text Box 4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8" name="Group 16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9" name="AutoShape 17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0" name="AutoShape 18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61" name="Picture 19" descr="piggybank-ecoin2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26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4" name="Rectangle 27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Oval 31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Rectangle 5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12-21T05:51:06Z</cp:lastPrinted>
  <dcterms:modified xsi:type="dcterms:W3CDTF">2010-09-22T00:59:50Z</dcterms:modified>
  <cp:revision>78</cp:revision>
  <dc:subject/>
  <dc:title>Cellular Respiration   Oxidation of Pyruvate   Krebs Cycle</dc:title>
</cp:coreProperties>
</file>