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Pig.wav" ContentType="audio/x-wav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A699-450E-4EEF-A32E-FEFE7C8E1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48F-04E6-4409-8D02-5095A1CF701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6ED5-0636-43D2-907F-AD0EECFCF72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2EC9-C7E5-4436-BE08-984FE3EC79D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EA3A-508A-4F81-BA90-4B05B66A130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3FCD-F035-4D0C-BA09-68538B99208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48F6-14AC-4697-BF07-D03D33DE036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2400-0317-4A27-92EE-3F2F80FEDBC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4E8-CB2E-4DD2-A82F-E1774E0DA62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4720-A6FF-40B4-86B9-F021D633402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F4AA-F8D5-4A5C-B98A-85911EED7C5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8431-6C27-401F-ACBD-481B20EF881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9843-B2EC-4C53-BC22-FC469E228E7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13F-6103-4529-B55D-8C915504A8C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8331-80AD-4484-8225-DA91F554120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4BC-0CDF-42E3-BD49-1CF683C8FB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EB56-7F11-4DD1-9F29-28E26D8F91D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4FD-41AA-4B80-9AA5-F63D7D8ED80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28FD-80FC-43FD-8A10-FD5EE0C5677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3E40-437E-4D15-A4B4-2F002A6E0F8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A0BB-F13D-4252-94DC-F26B86BFB93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4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10" name="Picture 35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1" name="Rectangle 36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AutoShape 45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1" name="Group 33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2" name="Picture 8" descr="09_15b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9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37" name="Group 32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8" name="Line 24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9" name="Text Box 25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0" name="Rectangle 26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AutoShape 29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40320 w 281160"/>
                <a:gd name="textAreaRight" fmla="*/ 240840 w 281160"/>
                <a:gd name="textAreaTop" fmla="*/ 33840 h 235800"/>
                <a:gd name="textAreaBottom" fmla="*/ 2019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9" name="Picture 47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8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3"/>
          <p:cNvSpPr/>
          <p:nvPr/>
        </p:nvSpPr>
        <p:spPr>
          <a:xfrm>
            <a:off x="53640" y="338760"/>
            <a:ext cx="4861440" cy="1116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4076280" y="6124680"/>
            <a:ext cx="49809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7" name="Group 11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8" name="Oval 12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b7c1eb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b7c1eb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1" descr="09-13-ElectronTransChain-L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9-13_how_electron_tran_c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___________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4" name="Picture 3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3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7" name="Picture 3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4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1" name="Picture 20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__________________________________________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5" name="Picture 7" descr="f9-16_chemiosmosis_c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______________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13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4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itchell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3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7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300" name="Picture 5" descr="09_17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6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627120" y="776160"/>
              <a:ext cx="1363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7414920" y="1461960"/>
              <a:ext cx="8892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510960" y="728640"/>
              <a:ext cx="1463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23"/>
            <p:cNvSpPr/>
            <p:nvPr/>
          </p:nvSpPr>
          <p:spPr>
            <a:xfrm>
              <a:off x="2364120" y="852480"/>
              <a:ext cx="13388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9" name="Rectangle 24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26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Rectangle 32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Rectangle 34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39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Rectangle 40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Rectangle 41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Rectangle 44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45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Rectangle 46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4"/>
          <p:cNvSpPr/>
          <p:nvPr/>
        </p:nvSpPr>
        <p:spPr>
          <a:xfrm>
            <a:off x="821160" y="59158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3616920" y="59284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6400080" y="592236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619360" y="5839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3" name="Rectangle 5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9" name="Group 34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0" name="Picture 10" descr="09_15b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1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85" name="Group 25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6" name="Line 26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7" name="Text Box 27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88" name="Rectangle 28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41040 w 280800"/>
                <a:gd name="textAreaRight" fmla="*/ 239760 w 280800"/>
                <a:gd name="textAreaTop" fmla="*/ 34920 h 236520"/>
                <a:gd name="textAreaBottom" fmla="*/ 20160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6" name="Picture 10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98" name="Picture 12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9" name="AutoShape 13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5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16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7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09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0" name="AutoShape 8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4" name="Oval 8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6" name="Picture 10" descr="penguinL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8" name="Picture 13" descr="09_15b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24964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6852240" y="1666800"/>
            <a:ext cx="1770120" cy="91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ochond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7426440" y="2587680"/>
            <a:ext cx="37944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8" name="Group 34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9" name="Freeform 32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03320" y="1292040"/>
            <a:ext cx="210492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6299280" y="1190520"/>
            <a:ext cx="248904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349040" y="2893680"/>
            <a:ext cx="1585080" cy="1042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1120" y="2965680"/>
            <a:ext cx="1466280" cy="542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9" name="Group 12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60" name="Picture 13" descr="piggybankFADH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4" descr="piggybank-ecoin2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AutoShape 10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6" name="Line 17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Text Box 23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8" name="Rectangle 24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69480 w 476280"/>
              <a:gd name="textAreaRight" fmla="*/ 406800 w 476280"/>
              <a:gd name="textAreaTop" fmla="*/ 57960 h 396720"/>
              <a:gd name="textAreaBottom" fmla="*/ 338760 h 396720"/>
            </a:gdLst>
            <a:ahLst/>
            <a:rect l="textAreaLeft" t="textAreaTop" r="textAreaRight" b="textAreaBottom"/>
            <a:pathLst>
              <a:path w="21600" h="21600">
                <a:moveTo>
                  <a:pt x="20160" y="10800"/>
                </a:moveTo>
                <a:cubicBezTo>
                  <a:pt x="20160" y="5630"/>
                  <a:pt x="15969" y="1440"/>
                  <a:pt x="10800" y="1440"/>
                </a:cubicBezTo>
                <a:cubicBezTo>
                  <a:pt x="5630" y="1440"/>
                  <a:pt x="1440" y="5630"/>
                  <a:pt x="144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lnTo>
                  <a:pt x="201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Oval 41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1" name="Oval 44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Oval 45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Oval 46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4" name="Line 47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Line 48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Line 49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AutoShape 51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9-01-13T00:07:18Z</cp:lastPrinted>
  <dcterms:modified xsi:type="dcterms:W3CDTF">2010-09-22T01:01:01Z</dcterms:modified>
  <cp:revision>51</cp:revision>
  <dc:subject/>
  <dc:title>Cellular Respiration  Stage 4:    Electron Transport Chain</dc:title>
</cp:coreProperties>
</file>